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13.xml.rels" ContentType="application/vnd.openxmlformats-package.relationships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57.xml" ContentType="application/vnd.openxmlformats-officedocument.presentationml.notesSlide+xml"/>
  <Override PartName="/ppt/_rels/presentation.xml.rels" ContentType="application/vnd.openxmlformats-package.relationships+xml"/>
  <Override PartName="/ppt/media/image59.png" ContentType="image/png"/>
  <Override PartName="/ppt/media/image52.wmf" ContentType="image/x-wmf"/>
  <Override PartName="/ppt/media/image50.jpeg" ContentType="image/jpeg"/>
  <Override PartName="/ppt/media/image46.wmf" ContentType="image/x-wmf"/>
  <Override PartName="/ppt/media/image45.wmf" ContentType="image/x-wmf"/>
  <Override PartName="/ppt/media/image44.wmf" ContentType="image/x-wmf"/>
  <Override PartName="/ppt/media/image43.png" ContentType="image/png"/>
  <Override PartName="/ppt/media/image42.png" ContentType="image/png"/>
  <Override PartName="/ppt/media/image36.wmf" ContentType="image/x-wmf"/>
  <Override PartName="/ppt/media/image35.wmf" ContentType="image/x-wmf"/>
  <Override PartName="/ppt/media/image33.wmf" ContentType="image/x-wmf"/>
  <Override PartName="/ppt/media/image32.wmf" ContentType="image/x-wmf"/>
  <Override PartName="/ppt/media/image31.wmf" ContentType="image/x-wmf"/>
  <Override PartName="/ppt/media/image15.png" ContentType="image/png"/>
  <Override PartName="/ppt/media/image55.wmf" ContentType="image/x-wmf"/>
  <Override PartName="/ppt/media/image17.png" ContentType="image/png"/>
  <Override PartName="/ppt/media/image57.wmf" ContentType="image/x-wmf"/>
  <Override PartName="/ppt/media/image20.wmf" ContentType="image/x-wmf"/>
  <Override PartName="/ppt/media/image21.wmf" ContentType="image/x-wmf"/>
  <Override PartName="/ppt/media/image60.png" ContentType="image/png"/>
  <Override PartName="/ppt/media/image6.jpeg" ContentType="image/jpeg"/>
  <Override PartName="/ppt/media/image71.png" ContentType="image/png"/>
  <Override PartName="/ppt/media/image69.wmf" ContentType="image/x-wmf"/>
  <Override PartName="/ppt/media/image56.wmf" ContentType="image/x-wmf"/>
  <Override PartName="/ppt/media/image19.wmf" ContentType="image/x-wmf"/>
  <Override PartName="/ppt/media/image58.png" ContentType="image/png"/>
  <Override PartName="/ppt/media/image22.wmf" ContentType="image/x-wmf"/>
  <Override PartName="/ppt/media/image65.png" ContentType="image/png"/>
  <Override PartName="/ppt/media/image26.wmf" ContentType="image/x-wmf"/>
  <Override PartName="/ppt/media/image23.wmf" ContentType="image/x-wmf"/>
  <Override PartName="/ppt/media/image62.png" ContentType="image/png"/>
  <Override PartName="/ppt/media/image24.wmf" ContentType="image/x-wmf"/>
  <Override PartName="/ppt/media/image25.wmf" ContentType="image/x-wmf"/>
  <Override PartName="/ppt/media/image72.png" ContentType="image/png"/>
  <Override PartName="/ppt/media/image70.wmf" ContentType="image/x-wmf"/>
  <Override PartName="/ppt/media/image28.wmf" ContentType="image/x-wmf"/>
  <Override PartName="/ppt/media/image68.wmf" ContentType="image/x-wmf"/>
  <Override PartName="/ppt/media/image67.wmf" ContentType="image/x-wmf"/>
  <Override PartName="/ppt/media/image66.wmf" ContentType="image/x-wmf"/>
  <Override PartName="/ppt/media/image29.wmf" ContentType="image/x-wmf"/>
  <Override PartName="/ppt/media/image63.wmf" ContentType="image/x-wmf"/>
  <Override PartName="/ppt/media/image64.wmf" ContentType="image/x-wmf"/>
  <Override PartName="/ppt/media/image27.wmf" ContentType="image/x-wmf"/>
  <Override PartName="/ppt/media/image18.wmf" ContentType="image/x-wmf"/>
  <Override PartName="/ppt/media/image61.png" ContentType="image/png"/>
  <Override PartName="/ppt/media/image5.jpeg" ContentType="image/jpeg"/>
  <Override PartName="/ppt/media/image11.wmf" ContentType="image/x-wmf"/>
  <Override PartName="/ppt/media/image48.wmf" ContentType="image/x-wmf"/>
  <Override PartName="/ppt/media/image54.wmf" ContentType="image/x-wmf"/>
  <Override PartName="/ppt/media/image9.wmf" ContentType="image/x-wmf"/>
  <Override PartName="/ppt/media/image39.wmf" ContentType="image/x-wmf"/>
  <Override PartName="/ppt/media/image3.jpeg" ContentType="image/jpeg"/>
  <Override PartName="/ppt/media/image41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12.wmf" ContentType="image/x-wmf"/>
  <Override PartName="/ppt/media/image49.wmf" ContentType="image/x-wmf"/>
  <Override PartName="/ppt/media/image51.png" ContentType="image/png"/>
  <Override PartName="/ppt/media/image7.png" ContentType="image/png"/>
  <Override PartName="/ppt/media/image37.png" ContentType="image/png"/>
  <Override PartName="/ppt/media/image1.png" ContentType="image/png"/>
  <Override PartName="/ppt/media/image13.png" ContentType="image/png"/>
  <Override PartName="/ppt/media/image53.wmf" ContentType="image/x-wmf"/>
  <Override PartName="/ppt/media/image8.wmf" ContentType="image/x-wmf"/>
  <Override PartName="/ppt/media/image38.wmf" ContentType="image/x-wmf"/>
  <Override PartName="/ppt/media/image40.png" ContentType="image/png"/>
  <Override PartName="/ppt/media/image14.png" ContentType="image/png"/>
  <Override PartName="/ppt/media/image2.png" ContentType="image/png"/>
  <Override PartName="/ppt/media/image10.wmf" ContentType="image/x-wmf"/>
  <Override PartName="/ppt/media/image47.wmf" ContentType="image/x-wmf"/>
  <Override PartName="/ppt/media/image30.wmf" ContentType="image/x-wmf"/>
  <Override PartName="/ppt/media/image73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  <p:sldId id="279" r:id="rId35"/>
    <p:sldId id="280" r:id="rId36"/>
    <p:sldId id="281" r:id="rId37"/>
    <p:sldId id="282" r:id="rId38"/>
    <p:sldId id="283" r:id="rId39"/>
    <p:sldId id="284" r:id="rId40"/>
    <p:sldId id="285" r:id="rId41"/>
    <p:sldId id="286" r:id="rId42"/>
    <p:sldId id="287" r:id="rId43"/>
    <p:sldId id="288" r:id="rId44"/>
    <p:sldId id="289" r:id="rId45"/>
    <p:sldId id="290" r:id="rId46"/>
    <p:sldId id="291" r:id="rId47"/>
    <p:sldId id="292" r:id="rId48"/>
    <p:sldId id="293" r:id="rId49"/>
    <p:sldId id="294" r:id="rId50"/>
    <p:sldId id="295" r:id="rId51"/>
    <p:sldId id="296" r:id="rId52"/>
    <p:sldId id="297" r:id="rId53"/>
    <p:sldId id="298" r:id="rId54"/>
    <p:sldId id="299" r:id="rId55"/>
    <p:sldId id="300" r:id="rId56"/>
    <p:sldId id="301" r:id="rId57"/>
    <p:sldId id="302" r:id="rId58"/>
    <p:sldId id="303" r:id="rId59"/>
    <p:sldId id="304" r:id="rId60"/>
    <p:sldId id="305" r:id="rId61"/>
    <p:sldId id="306" r:id="rId62"/>
    <p:sldId id="307" r:id="rId63"/>
    <p:sldId id="308" r:id="rId64"/>
    <p:sldId id="309" r:id="rId65"/>
    <p:sldId id="310" r:id="rId66"/>
    <p:sldId id="311" r:id="rId67"/>
    <p:sldId id="312" r:id="rId68"/>
    <p:sldId id="313" r:id="rId69"/>
    <p:sldId id="314" r:id="rId70"/>
    <p:sldId id="315" r:id="rId71"/>
    <p:sldId id="316" r:id="rId72"/>
    <p:sldId id="317" r:id="rId73"/>
    <p:sldId id="318" r:id="rId74"/>
    <p:sldId id="319" r:id="rId75"/>
    <p:sldId id="320" r:id="rId76"/>
    <p:sldId id="321" r:id="rId77"/>
    <p:sldId id="322" r:id="rId78"/>
    <p:sldId id="323" r:id="rId79"/>
    <p:sldId id="324" r:id="rId80"/>
    <p:sldId id="325" r:id="rId81"/>
    <p:sldId id="326" r:id="rId82"/>
    <p:sldId id="327" r:id="rId83"/>
    <p:sldId id="328" r:id="rId84"/>
    <p:sldId id="329" r:id="rId85"/>
    <p:sldId id="330" r:id="rId86"/>
    <p:sldId id="331" r:id="rId87"/>
    <p:sldId id="332" r:id="rId88"/>
    <p:sldId id="333" r:id="rId89"/>
    <p:sldId id="334" r:id="rId90"/>
    <p:sldId id="335" r:id="rId91"/>
    <p:sldId id="336" r:id="rId92"/>
    <p:sldId id="337" r:id="rId93"/>
    <p:sldId id="338" r:id="rId94"/>
    <p:sldId id="339" r:id="rId95"/>
    <p:sldId id="340" r:id="rId96"/>
    <p:sldId id="341" r:id="rId97"/>
    <p:sldId id="342" r:id="rId98"/>
    <p:sldId id="343" r:id="rId99"/>
    <p:sldId id="344" r:id="rId100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slide" Target="slides/slide24.xml"/><Relationship Id="rId36" Type="http://schemas.openxmlformats.org/officeDocument/2006/relationships/slide" Target="slides/slide25.xml"/><Relationship Id="rId37" Type="http://schemas.openxmlformats.org/officeDocument/2006/relationships/slide" Target="slides/slide26.xml"/><Relationship Id="rId38" Type="http://schemas.openxmlformats.org/officeDocument/2006/relationships/slide" Target="slides/slide27.xml"/><Relationship Id="rId39" Type="http://schemas.openxmlformats.org/officeDocument/2006/relationships/slide" Target="slides/slide28.xml"/><Relationship Id="rId40" Type="http://schemas.openxmlformats.org/officeDocument/2006/relationships/slide" Target="slides/slide29.xml"/><Relationship Id="rId41" Type="http://schemas.openxmlformats.org/officeDocument/2006/relationships/slide" Target="slides/slide30.xml"/><Relationship Id="rId42" Type="http://schemas.openxmlformats.org/officeDocument/2006/relationships/slide" Target="slides/slide31.xml"/><Relationship Id="rId43" Type="http://schemas.openxmlformats.org/officeDocument/2006/relationships/slide" Target="slides/slide32.xml"/><Relationship Id="rId44" Type="http://schemas.openxmlformats.org/officeDocument/2006/relationships/slide" Target="slides/slide33.xml"/><Relationship Id="rId45" Type="http://schemas.openxmlformats.org/officeDocument/2006/relationships/slide" Target="slides/slide34.xml"/><Relationship Id="rId46" Type="http://schemas.openxmlformats.org/officeDocument/2006/relationships/slide" Target="slides/slide35.xml"/><Relationship Id="rId47" Type="http://schemas.openxmlformats.org/officeDocument/2006/relationships/slide" Target="slides/slide36.xml"/><Relationship Id="rId48" Type="http://schemas.openxmlformats.org/officeDocument/2006/relationships/slide" Target="slides/slide37.xml"/><Relationship Id="rId49" Type="http://schemas.openxmlformats.org/officeDocument/2006/relationships/slide" Target="slides/slide38.xml"/><Relationship Id="rId50" Type="http://schemas.openxmlformats.org/officeDocument/2006/relationships/slide" Target="slides/slide39.xml"/><Relationship Id="rId51" Type="http://schemas.openxmlformats.org/officeDocument/2006/relationships/slide" Target="slides/slide40.xml"/><Relationship Id="rId52" Type="http://schemas.openxmlformats.org/officeDocument/2006/relationships/slide" Target="slides/slide41.xml"/><Relationship Id="rId53" Type="http://schemas.openxmlformats.org/officeDocument/2006/relationships/slide" Target="slides/slide42.xml"/><Relationship Id="rId54" Type="http://schemas.openxmlformats.org/officeDocument/2006/relationships/slide" Target="slides/slide43.xml"/><Relationship Id="rId55" Type="http://schemas.openxmlformats.org/officeDocument/2006/relationships/slide" Target="slides/slide44.xml"/><Relationship Id="rId56" Type="http://schemas.openxmlformats.org/officeDocument/2006/relationships/slide" Target="slides/slide45.xml"/><Relationship Id="rId57" Type="http://schemas.openxmlformats.org/officeDocument/2006/relationships/slide" Target="slides/slide46.xml"/><Relationship Id="rId58" Type="http://schemas.openxmlformats.org/officeDocument/2006/relationships/slide" Target="slides/slide47.xml"/><Relationship Id="rId59" Type="http://schemas.openxmlformats.org/officeDocument/2006/relationships/slide" Target="slides/slide48.xml"/><Relationship Id="rId60" Type="http://schemas.openxmlformats.org/officeDocument/2006/relationships/slide" Target="slides/slide49.xml"/><Relationship Id="rId61" Type="http://schemas.openxmlformats.org/officeDocument/2006/relationships/slide" Target="slides/slide50.xml"/><Relationship Id="rId62" Type="http://schemas.openxmlformats.org/officeDocument/2006/relationships/slide" Target="slides/slide51.xml"/><Relationship Id="rId63" Type="http://schemas.openxmlformats.org/officeDocument/2006/relationships/slide" Target="slides/slide52.xml"/><Relationship Id="rId64" Type="http://schemas.openxmlformats.org/officeDocument/2006/relationships/slide" Target="slides/slide53.xml"/><Relationship Id="rId65" Type="http://schemas.openxmlformats.org/officeDocument/2006/relationships/slide" Target="slides/slide54.xml"/><Relationship Id="rId66" Type="http://schemas.openxmlformats.org/officeDocument/2006/relationships/slide" Target="slides/slide55.xml"/><Relationship Id="rId67" Type="http://schemas.openxmlformats.org/officeDocument/2006/relationships/slide" Target="slides/slide56.xml"/><Relationship Id="rId68" Type="http://schemas.openxmlformats.org/officeDocument/2006/relationships/slide" Target="slides/slide57.xml"/><Relationship Id="rId69" Type="http://schemas.openxmlformats.org/officeDocument/2006/relationships/slide" Target="slides/slide58.xml"/><Relationship Id="rId70" Type="http://schemas.openxmlformats.org/officeDocument/2006/relationships/slide" Target="slides/slide59.xml"/><Relationship Id="rId71" Type="http://schemas.openxmlformats.org/officeDocument/2006/relationships/slide" Target="slides/slide60.xml"/><Relationship Id="rId72" Type="http://schemas.openxmlformats.org/officeDocument/2006/relationships/slide" Target="slides/slide61.xml"/><Relationship Id="rId73" Type="http://schemas.openxmlformats.org/officeDocument/2006/relationships/slide" Target="slides/slide62.xml"/><Relationship Id="rId74" Type="http://schemas.openxmlformats.org/officeDocument/2006/relationships/slide" Target="slides/slide63.xml"/><Relationship Id="rId75" Type="http://schemas.openxmlformats.org/officeDocument/2006/relationships/slide" Target="slides/slide64.xml"/><Relationship Id="rId76" Type="http://schemas.openxmlformats.org/officeDocument/2006/relationships/slide" Target="slides/slide65.xml"/><Relationship Id="rId77" Type="http://schemas.openxmlformats.org/officeDocument/2006/relationships/slide" Target="slides/slide66.xml"/><Relationship Id="rId78" Type="http://schemas.openxmlformats.org/officeDocument/2006/relationships/slide" Target="slides/slide67.xml"/><Relationship Id="rId79" Type="http://schemas.openxmlformats.org/officeDocument/2006/relationships/slide" Target="slides/slide68.xml"/><Relationship Id="rId80" Type="http://schemas.openxmlformats.org/officeDocument/2006/relationships/slide" Target="slides/slide69.xml"/><Relationship Id="rId81" Type="http://schemas.openxmlformats.org/officeDocument/2006/relationships/slide" Target="slides/slide70.xml"/><Relationship Id="rId82" Type="http://schemas.openxmlformats.org/officeDocument/2006/relationships/slide" Target="slides/slide71.xml"/><Relationship Id="rId83" Type="http://schemas.openxmlformats.org/officeDocument/2006/relationships/slide" Target="slides/slide72.xml"/><Relationship Id="rId84" Type="http://schemas.openxmlformats.org/officeDocument/2006/relationships/slide" Target="slides/slide73.xml"/><Relationship Id="rId85" Type="http://schemas.openxmlformats.org/officeDocument/2006/relationships/slide" Target="slides/slide74.xml"/><Relationship Id="rId86" Type="http://schemas.openxmlformats.org/officeDocument/2006/relationships/slide" Target="slides/slide75.xml"/><Relationship Id="rId87" Type="http://schemas.openxmlformats.org/officeDocument/2006/relationships/slide" Target="slides/slide76.xml"/><Relationship Id="rId88" Type="http://schemas.openxmlformats.org/officeDocument/2006/relationships/slide" Target="slides/slide77.xml"/><Relationship Id="rId89" Type="http://schemas.openxmlformats.org/officeDocument/2006/relationships/slide" Target="slides/slide78.xml"/><Relationship Id="rId90" Type="http://schemas.openxmlformats.org/officeDocument/2006/relationships/slide" Target="slides/slide79.xml"/><Relationship Id="rId91" Type="http://schemas.openxmlformats.org/officeDocument/2006/relationships/slide" Target="slides/slide80.xml"/><Relationship Id="rId92" Type="http://schemas.openxmlformats.org/officeDocument/2006/relationships/slide" Target="slides/slide81.xml"/><Relationship Id="rId93" Type="http://schemas.openxmlformats.org/officeDocument/2006/relationships/slide" Target="slides/slide82.xml"/><Relationship Id="rId94" Type="http://schemas.openxmlformats.org/officeDocument/2006/relationships/slide" Target="slides/slide83.xml"/><Relationship Id="rId95" Type="http://schemas.openxmlformats.org/officeDocument/2006/relationships/slide" Target="slides/slide84.xml"/><Relationship Id="rId96" Type="http://schemas.openxmlformats.org/officeDocument/2006/relationships/slide" Target="slides/slide85.xml"/><Relationship Id="rId97" Type="http://schemas.openxmlformats.org/officeDocument/2006/relationships/slide" Target="slides/slide86.xml"/><Relationship Id="rId98" Type="http://schemas.openxmlformats.org/officeDocument/2006/relationships/slide" Target="slides/slide87.xml"/><Relationship Id="rId99" Type="http://schemas.openxmlformats.org/officeDocument/2006/relationships/slide" Target="slides/slide88.xml"/><Relationship Id="rId100" Type="http://schemas.openxmlformats.org/officeDocument/2006/relationships/slide" Target="slides/slide89.xml"/><Relationship Id="rId10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dt" idx="2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 type="sldImg"/>
          </p:nvPr>
        </p:nvSpPr>
        <p:spPr>
          <a:xfrm>
            <a:off x="992160" y="767880"/>
            <a:ext cx="5114880" cy="3837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9000" rIns="99000" tIns="49680" bIns="49680" anchor="ctr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 type="ftr" idx="3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 type="sldNum" idx="4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CCF0A-0AEE-4D20-88B1-0E52C2EB721B}" type="slidenum">
              <a:rPr b="0" lang="en-AU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86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36AED-4629-4C88-A7E0-6B760ABFF4C3}" type="slidenum">
              <a:rPr b="0" lang="en-AU" sz="13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89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0AFA4-C8BC-4F98-85E7-77878AB2E5BE}" type="slidenum">
              <a:rPr b="0" lang="en-AU" sz="13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89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6B314-5272-48C0-81BB-24FFA29FDE92}" type="slidenum">
              <a:rPr b="0" lang="en-AU" sz="13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90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F92CC-B75C-48C4-BE7D-3BB0AC5EEDFF}" type="slidenum">
              <a:rPr b="0" lang="en-AU" sz="13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90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AB989-2B4A-4B4A-9985-2514573C99B4}" type="slidenum">
              <a:rPr b="0" lang="en-AU" sz="13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90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9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06D84-591B-43C0-BCE7-1113918A79CE}" type="slidenum">
              <a:rPr b="0" lang="en-AU" sz="13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91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74529-D6E4-4509-BC9C-79FB6B156EA9}" type="slidenum">
              <a:rPr b="0" lang="en-AU" sz="13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87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C2664-E6BB-4062-9B95-F2675D2C4A6B}" type="slidenum">
              <a:rPr b="0" lang="en-AU" sz="13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91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BD0BF-9BF2-4CD7-9F44-B9C36C701AF2}" type="slidenum">
              <a:rPr b="0" lang="en-AU" sz="13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91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EB5B7-CC93-4468-A82B-4A88435AE8FC}" type="slidenum">
              <a:rPr b="0" lang="en-AU" sz="13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92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1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93EFC-9018-40CF-A2C3-A489AFA0BB4B}" type="slidenum">
              <a:rPr b="0" lang="en-AU" sz="13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4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66738-23E5-41E1-9748-EB9E63679858}" type="slidenum">
              <a:rPr b="0" lang="en-AU" sz="13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92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7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A4E23-CD33-417F-8415-7655DB35B46D}" type="slidenum">
              <a:rPr b="0" lang="en-AU" sz="13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92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0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76B50-D0FE-445F-A0DE-2B67F1D94045}" type="slidenum">
              <a:rPr b="0" lang="en-AU" sz="13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A072D-CB53-4BD2-B58F-71753D971834}" type="slidenum">
              <a:rPr b="0" lang="en-AU" sz="13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93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42506-5A0A-42D3-9A62-F5120A96BFFD}" type="slidenum">
              <a:rPr b="0" lang="en-AU" sz="13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93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1BAD8-7972-48C4-8DC3-9E816E2F9E6D}" type="slidenum">
              <a:rPr b="0" lang="en-AU" sz="13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93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9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4D8A8-D94A-4368-98CA-629A8F929373}" type="slidenum">
              <a:rPr b="0" lang="en-AU" sz="13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60614-CAA2-4E4D-A954-ADDA17723436}" type="slidenum">
              <a:rPr b="0" lang="en-AU" sz="13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7A3BA-F4A5-4508-8874-74A60AE229C8}" type="slidenum">
              <a:rPr b="0" lang="en-AU" sz="13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94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9228E-AD13-4571-A5CE-B6B7C2069393}" type="slidenum">
              <a:rPr b="0" lang="en-AU" sz="13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95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4D224-6115-4C2F-8F1A-FD42CC19ACDD}" type="slidenum">
              <a:rPr b="0" lang="en-AU" sz="13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95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4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DDC63-73FE-4557-B77D-68FF904BD670}" type="slidenum">
              <a:rPr b="0" lang="en-AU" sz="13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95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7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E5946-27DA-4844-8AA8-FE55DDA3A8F3}" type="slidenum">
              <a:rPr b="0" lang="en-AU" sz="13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95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0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16C37-BFFE-45E7-A72F-990397A4E47B}" type="slidenum">
              <a:rPr b="0" lang="en-AU" sz="13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87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9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380F6-5BFE-4C01-A83D-14A6313EF222}" type="slidenum">
              <a:rPr b="0" lang="en-AU" sz="13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96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3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EE15D-CF71-4CAD-B2A4-CFEA3ABAC472}" type="slidenum">
              <a:rPr b="0" lang="en-AU" sz="13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96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CCAE6-AE07-4B67-89DF-96993C0FA137}" type="slidenum">
              <a:rPr b="0" lang="en-AU" sz="13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96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9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8DD99-CB2F-4627-A0E1-6B87E230F8AA}" type="slidenum">
              <a:rPr b="0" lang="en-AU" sz="13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2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D95DA-E158-4E6D-AFB4-846B61D21C66}" type="slidenum">
              <a:rPr b="0" lang="en-AU" sz="13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97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011E0-87EF-43CF-992D-2882882DDDAA}" type="slidenum">
              <a:rPr b="0" lang="en-AU" sz="13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97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8C36B-4898-4D47-910F-0FAC2DEF1D1B}" type="slidenum">
              <a:rPr b="0" lang="en-AU" sz="13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98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1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AA0D8-3450-42AF-96D3-1E0E2A4D3ADA}" type="slidenum">
              <a:rPr b="0" lang="en-AU" sz="13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4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E1242-268B-4373-B3DE-66249CA3BB7B}" type="slidenum">
              <a:rPr b="0" lang="en-AU" sz="13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98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7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6BF7A-9723-41D2-8C25-C6CA13D0D9EF}" type="slidenum">
              <a:rPr b="0" lang="en-AU" sz="13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98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0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37749-CD84-4785-9780-CDD7CCD4BC66}" type="slidenum">
              <a:rPr b="0" lang="en-AU" sz="13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2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17D0C-06BA-4BD1-A9A9-EAEF4314045A}" type="slidenum">
              <a:rPr b="0" lang="en-AU" sz="13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99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3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513E2-0C18-4EFF-BA55-C2600797C6BF}" type="slidenum">
              <a:rPr b="0" lang="en-AU" sz="13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99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6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AF547-4430-4192-B36C-C3561C5A2479}" type="slidenum">
              <a:rPr b="0" lang="en-AU" sz="13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9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62394-B30D-4C5B-B1A5-96E075295CF9}" type="slidenum">
              <a:rPr b="0" lang="en-AU" sz="13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00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2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2BBD9-AFE9-4294-88A8-FAAC8AECA581}" type="slidenum">
              <a:rPr b="0" lang="en-AU" sz="13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5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5BCAA-2C5A-4630-BD80-FD2B954C3260}" type="slidenum">
              <a:rPr b="0" lang="en-AU" sz="13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8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626C3-18E6-44EE-85B9-3C56CC7F77E1}" type="slidenum">
              <a:rPr b="0" lang="en-AU" sz="13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01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1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2F318-8A11-4344-82E4-A9FAF0A1AD97}" type="slidenum">
              <a:rPr b="0" lang="en-AU" sz="13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4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D1752-88E5-4B17-86D6-A2C3A6E940E9}" type="slidenum">
              <a:rPr b="0" lang="en-AU" sz="13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01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7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8DEC3-CE2B-471E-8BC0-4E2746FA3249}" type="slidenum">
              <a:rPr b="0" lang="en-AU" sz="13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0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9C91E-F2D3-4F05-A38D-672FDCB950A6}" type="slidenum">
              <a:rPr b="0" lang="en-AU" sz="13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88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5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0F569-136C-4380-B0F9-79DE24167A94}" type="slidenum">
              <a:rPr b="0" lang="en-AU" sz="13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02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3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E4B6F-F30B-47FE-9323-5FA5D29A65F4}" type="slidenum">
              <a:rPr b="0" lang="en-AU" sz="13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02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6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A2902-E9AE-4CB0-BB7C-FDE5BBE6AD99}" type="slidenum">
              <a:rPr b="0" lang="en-US" sz="13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02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9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CADA9-194F-474E-A12D-32B09D0C4D08}" type="slidenum">
              <a:rPr b="0" lang="en-US" sz="13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03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2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5601B-3314-4E62-8C8F-73F6E6FE00FC}" type="slidenum">
              <a:rPr b="0" lang="en-US" sz="13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03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5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26079-6F04-451B-82E0-B867CC410DFF}" type="slidenum">
              <a:rPr b="0" lang="en-US" sz="13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88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8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48C93-5FC7-487D-9BA9-05830133004B}" type="slidenum">
              <a:rPr b="0" lang="en-AU" sz="13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03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8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20165-65C9-4234-B5B2-E89B87A8B87C}" type="slidenum">
              <a:rPr b="0" lang="en-AU" sz="13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04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1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C2430-FB76-464A-BF63-438CEED48D10}" type="slidenum">
              <a:rPr b="0" lang="en-AU" sz="13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81451-34BB-4EDE-91CF-EE1CA23D05CA}" type="slidenum">
              <a:rPr b="0" lang="en-US" sz="13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04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04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7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2B0B7-9CD7-4157-A113-A00FF660843F}" type="slidenum">
              <a:rPr b="0" lang="en-US" sz="13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04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0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CE989-7EBA-4F2F-929D-DA7FF6CFB1F1}" type="slidenum">
              <a:rPr b="0" lang="en-US" sz="13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052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3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5F950-E930-4CF9-ABF0-532A88ABE635}" type="slidenum">
              <a:rPr b="0" lang="en-US" sz="13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05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6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BA611-017E-48F7-B214-0C517E94BE09}" type="slidenum">
              <a:rPr b="0" lang="en-AU" sz="13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89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43D74-E77D-461D-AC43-215D39B275B3}" type="slidenum">
              <a:rPr b="0" lang="en-AU" sz="13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05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3BAE5-1931-4908-832A-1796776D2C87}" type="slidenum">
              <a:rPr b="0" lang="en-AU" sz="13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06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2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23769-920E-4C71-AD38-E9486D57F6AB}" type="slidenum">
              <a:rPr b="0" lang="en-AU" sz="13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Rectangle 7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33D3F-4AF0-41D0-8848-F8103903A457}" type="slidenum">
              <a:rPr b="0" lang="en-US" sz="13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06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8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5144B-225E-4FF5-B94C-2C3F6B669174}" type="slidenum">
              <a:rPr b="0" lang="en-US" sz="13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89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Slide Number Placeholder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1176C-6E2C-450D-95C1-864B5B100A76}" type="slidenum">
              <a:rPr b="0" lang="en-AU" sz="13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48ECB2-B7CB-4B54-8C4A-C71682D241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866304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50920" y="4019400"/>
            <a:ext cx="866304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E402D2-D395-45A0-A1ED-0D80065DF283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4227480" cy="50961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90080" y="1357200"/>
            <a:ext cx="4227480" cy="50961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ubTitle"/>
          </p:nvPr>
        </p:nvSpPr>
        <p:spPr>
          <a:xfrm>
            <a:off x="1857240" y="428400"/>
            <a:ext cx="7056720" cy="29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90080" y="1357200"/>
            <a:ext cx="4227480" cy="50961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250920" y="40194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4227480" cy="50961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90080" y="13572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690080" y="40194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90080" y="13572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250920" y="4019400"/>
            <a:ext cx="866304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866304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250920" y="4019400"/>
            <a:ext cx="866304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90080" y="13572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250920" y="40194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4690080" y="40194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27892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3179880" y="1357200"/>
            <a:ext cx="27892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6109200" y="1357200"/>
            <a:ext cx="27892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/>
          </p:nvPr>
        </p:nvSpPr>
        <p:spPr>
          <a:xfrm>
            <a:off x="250920" y="4019400"/>
            <a:ext cx="27892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6"/>
          <p:cNvSpPr>
            <a:spLocks noGrp="1"/>
          </p:cNvSpPr>
          <p:nvPr>
            <p:ph/>
          </p:nvPr>
        </p:nvSpPr>
        <p:spPr>
          <a:xfrm>
            <a:off x="3179880" y="4019400"/>
            <a:ext cx="27892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7"/>
          <p:cNvSpPr>
            <a:spLocks noGrp="1"/>
          </p:cNvSpPr>
          <p:nvPr>
            <p:ph/>
          </p:nvPr>
        </p:nvSpPr>
        <p:spPr>
          <a:xfrm>
            <a:off x="6109200" y="4019400"/>
            <a:ext cx="27892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90080" y="13572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50920" y="40194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90080" y="40194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FAD09F-78E4-4F6D-8667-A340BBD449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27892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79880" y="1357200"/>
            <a:ext cx="27892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09200" y="1357200"/>
            <a:ext cx="27892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50920" y="4019400"/>
            <a:ext cx="27892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79880" y="4019400"/>
            <a:ext cx="27892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09200" y="4019400"/>
            <a:ext cx="27892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45CB34-8E97-4283-8BB1-84AA59693B0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250920" y="1357200"/>
            <a:ext cx="8663040" cy="509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8663040" cy="50961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4227480" cy="50961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90080" y="1357200"/>
            <a:ext cx="4227480" cy="50961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1857240" y="428400"/>
            <a:ext cx="7056720" cy="29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0080" y="1357200"/>
            <a:ext cx="4227480" cy="50961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50920" y="40194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50920" y="1357200"/>
            <a:ext cx="8663040" cy="509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2D19FB-F075-4842-A3DE-A3682AB6C3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4227480" cy="50961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0080" y="13572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90080" y="40194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90080" y="13572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250920" y="4019400"/>
            <a:ext cx="866304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866304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50920" y="4019400"/>
            <a:ext cx="866304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90080" y="13572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250920" y="40194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90080" y="40194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27892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179880" y="1357200"/>
            <a:ext cx="27892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09200" y="1357200"/>
            <a:ext cx="27892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250920" y="4019400"/>
            <a:ext cx="27892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179880" y="4019400"/>
            <a:ext cx="27892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09200" y="4019400"/>
            <a:ext cx="27892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250920" y="1357200"/>
            <a:ext cx="8663040" cy="509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8663040" cy="50961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4227480" cy="50961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90080" y="1357200"/>
            <a:ext cx="4227480" cy="50961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8663040" cy="50961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F37D53-FA0B-48F9-8A79-E8E91E59622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1857240" y="428400"/>
            <a:ext cx="7056720" cy="29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0080" y="1357200"/>
            <a:ext cx="4227480" cy="50961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250920" y="40194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4227480" cy="50961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90080" y="13572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90080" y="40194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90080" y="13572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250920" y="4019400"/>
            <a:ext cx="866304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866304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250920" y="4019400"/>
            <a:ext cx="866304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90080" y="13572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250920" y="40194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90080" y="40194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27892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179880" y="1357200"/>
            <a:ext cx="27892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109200" y="1357200"/>
            <a:ext cx="27892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250920" y="4019400"/>
            <a:ext cx="27892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179880" y="4019400"/>
            <a:ext cx="27892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109200" y="4019400"/>
            <a:ext cx="27892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250920" y="1357200"/>
            <a:ext cx="8663040" cy="509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8663040" cy="50961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4227480" cy="50961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90080" y="1357200"/>
            <a:ext cx="4227480" cy="50961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920BDD-73BF-48D5-8065-2853AAD51629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4227480" cy="50961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90080" y="1357200"/>
            <a:ext cx="4227480" cy="50961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1857240" y="428400"/>
            <a:ext cx="7056720" cy="29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90080" y="1357200"/>
            <a:ext cx="4227480" cy="50961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250920" y="40194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4227480" cy="50961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90080" y="13572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690080" y="40194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90080" y="13572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250920" y="4019400"/>
            <a:ext cx="866304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866304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250920" y="4019400"/>
            <a:ext cx="866304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90080" y="13572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250920" y="40194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690080" y="40194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27892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179880" y="1357200"/>
            <a:ext cx="27892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109200" y="1357200"/>
            <a:ext cx="27892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250920" y="4019400"/>
            <a:ext cx="27892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3179880" y="4019400"/>
            <a:ext cx="27892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6109200" y="4019400"/>
            <a:ext cx="27892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4B7188-E8FA-434F-9B0C-9C28935228AF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250920" y="1357200"/>
            <a:ext cx="8663040" cy="509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8663040" cy="50961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4227480" cy="50961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90080" y="1357200"/>
            <a:ext cx="4227480" cy="50961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1857240" y="428400"/>
            <a:ext cx="7056720" cy="29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90080" y="1357200"/>
            <a:ext cx="4227480" cy="50961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250920" y="40194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4227480" cy="50961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90080" y="13572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90080" y="40194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90080" y="13572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250920" y="4019400"/>
            <a:ext cx="866304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866304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250920" y="4019400"/>
            <a:ext cx="866304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90080" y="13572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250920" y="40194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90080" y="40194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857240" y="428400"/>
            <a:ext cx="7056720" cy="29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14B72D-812A-45D6-8BD7-87BF8B9F0A2C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27892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179880" y="1357200"/>
            <a:ext cx="27892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109200" y="1357200"/>
            <a:ext cx="27892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250920" y="4019400"/>
            <a:ext cx="27892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179880" y="4019400"/>
            <a:ext cx="27892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6109200" y="4019400"/>
            <a:ext cx="27892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250920" y="1357200"/>
            <a:ext cx="8663040" cy="509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8663040" cy="50961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4227480" cy="50961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90080" y="1357200"/>
            <a:ext cx="4227480" cy="50961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1857240" y="428400"/>
            <a:ext cx="7056720" cy="29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90080" y="1357200"/>
            <a:ext cx="4227480" cy="50961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250920" y="40194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4227480" cy="50961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90080" y="13572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90080" y="40194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90080" y="13572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50920" y="4019400"/>
            <a:ext cx="866304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90080" y="1357200"/>
            <a:ext cx="4227480" cy="50961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50920" y="40194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D9BF97-2973-4EE6-854A-719A928342AC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866304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250920" y="4019400"/>
            <a:ext cx="866304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90080" y="13572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250920" y="40194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90080" y="40194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27892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179880" y="1357200"/>
            <a:ext cx="27892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109200" y="1357200"/>
            <a:ext cx="27892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250920" y="4019400"/>
            <a:ext cx="27892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179880" y="4019400"/>
            <a:ext cx="27892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109200" y="4019400"/>
            <a:ext cx="27892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250920" y="1357200"/>
            <a:ext cx="8663040" cy="509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8663040" cy="50961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4227480" cy="50961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90080" y="1357200"/>
            <a:ext cx="4227480" cy="50961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1857240" y="428400"/>
            <a:ext cx="7056720" cy="29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90080" y="1357200"/>
            <a:ext cx="4227480" cy="50961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250920" y="40194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4227480" cy="50961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90080" y="13572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90080" y="40194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879740-F1CB-4914-8FFC-9DFB03CF9AB6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4227480" cy="50961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90080" y="13572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690080" y="40194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90080" y="13572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250920" y="4019400"/>
            <a:ext cx="866304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866304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250920" y="4019400"/>
            <a:ext cx="866304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90080" y="13572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250920" y="40194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690080" y="40194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27892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3179880" y="1357200"/>
            <a:ext cx="27892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109200" y="1357200"/>
            <a:ext cx="27892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250920" y="4019400"/>
            <a:ext cx="27892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3179880" y="4019400"/>
            <a:ext cx="27892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6109200" y="4019400"/>
            <a:ext cx="27892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250920" y="1357200"/>
            <a:ext cx="8663040" cy="509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8663040" cy="50961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4227480" cy="50961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90080" y="1357200"/>
            <a:ext cx="4227480" cy="50961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90080" y="13572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50920" y="4019400"/>
            <a:ext cx="866304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BC3A16-DA67-4090-A976-8FCCD82D7ED6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ubTitle"/>
          </p:nvPr>
        </p:nvSpPr>
        <p:spPr>
          <a:xfrm>
            <a:off x="1857240" y="428400"/>
            <a:ext cx="7056720" cy="2936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90080" y="1357200"/>
            <a:ext cx="4227480" cy="50961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250920" y="40194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4227480" cy="50961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90080" y="13572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690080" y="40194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90080" y="13572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250920" y="4019400"/>
            <a:ext cx="866304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866304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250920" y="4019400"/>
            <a:ext cx="866304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90080" y="13572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250920" y="40194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690080" y="4019400"/>
            <a:ext cx="42274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27892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3179880" y="1357200"/>
            <a:ext cx="27892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109200" y="1357200"/>
            <a:ext cx="27892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250920" y="4019400"/>
            <a:ext cx="27892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6"/>
          <p:cNvSpPr>
            <a:spLocks noGrp="1"/>
          </p:cNvSpPr>
          <p:nvPr>
            <p:ph/>
          </p:nvPr>
        </p:nvSpPr>
        <p:spPr>
          <a:xfrm>
            <a:off x="3179880" y="4019400"/>
            <a:ext cx="27892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7"/>
          <p:cNvSpPr>
            <a:spLocks noGrp="1"/>
          </p:cNvSpPr>
          <p:nvPr>
            <p:ph/>
          </p:nvPr>
        </p:nvSpPr>
        <p:spPr>
          <a:xfrm>
            <a:off x="6109200" y="4019400"/>
            <a:ext cx="2789280" cy="2430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subTitle"/>
          </p:nvPr>
        </p:nvSpPr>
        <p:spPr>
          <a:xfrm>
            <a:off x="250920" y="1357200"/>
            <a:ext cx="8663040" cy="509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250920" y="1357200"/>
            <a:ext cx="8663040" cy="50961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3.jpeg"/><Relationship Id="rId4" Type="http://schemas.openxmlformats.org/officeDocument/2006/relationships/image" Target="../media/image1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5.jpeg"/><Relationship Id="rId4" Type="http://schemas.openxmlformats.org/officeDocument/2006/relationships/image" Target="../media/image1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6.jpeg"/><Relationship Id="rId4" Type="http://schemas.openxmlformats.org/officeDocument/2006/relationships/image" Target="../media/image1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6"/>
          <p:cNvSpPr/>
          <p:nvPr/>
        </p:nvSpPr>
        <p:spPr>
          <a:xfrm flipH="1">
            <a:off x="928080" y="260280"/>
            <a:ext cx="8001000" cy="954000"/>
          </a:xfrm>
          <a:prstGeom prst="rect">
            <a:avLst/>
          </a:prstGeom>
          <a:solidFill>
            <a:srgbClr val="1241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50920" y="1357200"/>
            <a:ext cx="8663040" cy="50961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396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39640" indent="-17784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717480" indent="-17784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895320" indent="-17784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895320" indent="-177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895320" indent="-177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8664120" y="6586200"/>
            <a:ext cx="249480" cy="21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900" spc="-1" strike="noStrike">
                <a:solidFill>
                  <a:srgbClr val="ce11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AAC54-157B-4838-A081-B00108C5EFD6}" type="slidenum">
              <a:rPr b="0" lang="en-AU" sz="900" spc="-1" strike="noStrike">
                <a:solidFill>
                  <a:srgbClr val="ce11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Straight Connector 23"/>
          <p:cNvSpPr/>
          <p:nvPr/>
        </p:nvSpPr>
        <p:spPr>
          <a:xfrm>
            <a:off x="250920" y="6575400"/>
            <a:ext cx="8678880" cy="0"/>
          </a:xfrm>
          <a:prstGeom prst="line">
            <a:avLst/>
          </a:prstGeom>
          <a:ln w="28440">
            <a:solidFill>
              <a:srgbClr val="ce1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Group 10"/>
          <p:cNvGrpSpPr/>
          <p:nvPr/>
        </p:nvGrpSpPr>
        <p:grpSpPr>
          <a:xfrm>
            <a:off x="250920" y="260280"/>
            <a:ext cx="1611360" cy="789120"/>
            <a:chOff x="250920" y="260280"/>
            <a:chExt cx="1611360" cy="789120"/>
          </a:xfrm>
        </p:grpSpPr>
        <p:sp>
          <p:nvSpPr>
            <p:cNvPr id="6" name="Rectangle 11"/>
            <p:cNvSpPr/>
            <p:nvPr/>
          </p:nvSpPr>
          <p:spPr>
            <a:xfrm flipH="1">
              <a:off x="250920" y="260280"/>
              <a:ext cx="1611360" cy="789120"/>
            </a:xfrm>
            <a:prstGeom prst="rect">
              <a:avLst/>
            </a:prstGeom>
            <a:solidFill>
              <a:srgbClr val="ce11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" name="Picture 12" descr="USY_MB1_rgb_Reversed_Standard_Logo.png"/>
            <p:cNvPicPr/>
            <p:nvPr/>
          </p:nvPicPr>
          <p:blipFill>
            <a:blip r:embed="rId2"/>
            <a:stretch/>
          </p:blipFill>
          <p:spPr>
            <a:xfrm>
              <a:off x="422640" y="435240"/>
              <a:ext cx="1267920" cy="43920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6"/>
          <p:cNvSpPr/>
          <p:nvPr/>
        </p:nvSpPr>
        <p:spPr>
          <a:xfrm flipH="1">
            <a:off x="928080" y="260280"/>
            <a:ext cx="8001000" cy="954000"/>
          </a:xfrm>
          <a:prstGeom prst="rect">
            <a:avLst/>
          </a:prstGeom>
          <a:solidFill>
            <a:srgbClr val="1241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Straight Connector 23"/>
          <p:cNvSpPr/>
          <p:nvPr/>
        </p:nvSpPr>
        <p:spPr>
          <a:xfrm>
            <a:off x="250920" y="6575400"/>
            <a:ext cx="8678880" cy="0"/>
          </a:xfrm>
          <a:prstGeom prst="line">
            <a:avLst/>
          </a:prstGeom>
          <a:ln w="28440">
            <a:solidFill>
              <a:srgbClr val="ce1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Group 10"/>
          <p:cNvGrpSpPr/>
          <p:nvPr/>
        </p:nvGrpSpPr>
        <p:grpSpPr>
          <a:xfrm>
            <a:off x="250920" y="260280"/>
            <a:ext cx="1611360" cy="789120"/>
            <a:chOff x="250920" y="260280"/>
            <a:chExt cx="1611360" cy="789120"/>
          </a:xfrm>
        </p:grpSpPr>
        <p:sp>
          <p:nvSpPr>
            <p:cNvPr id="47" name="Rectangle 11"/>
            <p:cNvSpPr/>
            <p:nvPr/>
          </p:nvSpPr>
          <p:spPr>
            <a:xfrm flipH="1">
              <a:off x="250920" y="260280"/>
              <a:ext cx="1611360" cy="789120"/>
            </a:xfrm>
            <a:prstGeom prst="rect">
              <a:avLst/>
            </a:prstGeom>
            <a:solidFill>
              <a:srgbClr val="ce11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8" name="Picture 12" descr="USY_MB1_rgb_Reversed_Standard_Logo.png"/>
            <p:cNvPicPr/>
            <p:nvPr/>
          </p:nvPicPr>
          <p:blipFill>
            <a:blip r:embed="rId2"/>
            <a:stretch/>
          </p:blipFill>
          <p:spPr>
            <a:xfrm>
              <a:off x="422640" y="435240"/>
              <a:ext cx="1267920" cy="439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Rectangle 2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1071720" y="0"/>
            <a:ext cx="8072280" cy="5786280"/>
          </a:xfrm>
          <a:prstGeom prst="rect">
            <a:avLst/>
          </a:prstGeom>
          <a:solidFill>
            <a:srgbClr val="ce11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21"/>
          <p:cNvSpPr/>
          <p:nvPr/>
        </p:nvSpPr>
        <p:spPr>
          <a:xfrm>
            <a:off x="1071720" y="4200480"/>
            <a:ext cx="2303280" cy="2303640"/>
          </a:xfrm>
          <a:prstGeom prst="rect">
            <a:avLst/>
          </a:prstGeom>
          <a:solidFill>
            <a:srgbClr val="1241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20"/>
          <p:cNvGrpSpPr/>
          <p:nvPr/>
        </p:nvGrpSpPr>
        <p:grpSpPr>
          <a:xfrm>
            <a:off x="262080" y="5715000"/>
            <a:ext cx="1612800" cy="789120"/>
            <a:chOff x="262080" y="5715000"/>
            <a:chExt cx="1612800" cy="789120"/>
          </a:xfrm>
        </p:grpSpPr>
        <p:sp>
          <p:nvSpPr>
            <p:cNvPr id="53" name="Rectangle 17"/>
            <p:cNvSpPr/>
            <p:nvPr/>
          </p:nvSpPr>
          <p:spPr>
            <a:xfrm flipH="1">
              <a:off x="262080" y="5715000"/>
              <a:ext cx="1612800" cy="789120"/>
            </a:xfrm>
            <a:prstGeom prst="rect">
              <a:avLst/>
            </a:prstGeom>
            <a:solidFill>
              <a:srgbClr val="ce11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4" name="Picture 18" descr="USY_MB1_rgb_Reversed_Standard_Logo.png"/>
            <p:cNvPicPr/>
            <p:nvPr/>
          </p:nvPicPr>
          <p:blipFill>
            <a:blip r:embed="rId3"/>
            <a:stretch/>
          </p:blipFill>
          <p:spPr>
            <a:xfrm>
              <a:off x="433800" y="5889960"/>
              <a:ext cx="1269000" cy="439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5" name="Picture 14" descr="ITLS-blue-red-no-text"/>
          <p:cNvPicPr/>
          <p:nvPr/>
        </p:nvPicPr>
        <p:blipFill>
          <a:blip r:embed="rId4"/>
          <a:stretch/>
        </p:blipFill>
        <p:spPr>
          <a:xfrm>
            <a:off x="8035920" y="5829480"/>
            <a:ext cx="1008000" cy="91584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250920" y="1357200"/>
            <a:ext cx="8663040" cy="50961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396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39640" indent="-17784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717480" indent="-17784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895320" indent="-17784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895320" indent="-177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895320" indent="-177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16"/>
          <p:cNvSpPr/>
          <p:nvPr/>
        </p:nvSpPr>
        <p:spPr>
          <a:xfrm flipH="1">
            <a:off x="928080" y="260280"/>
            <a:ext cx="8001000" cy="954000"/>
          </a:xfrm>
          <a:prstGeom prst="rect">
            <a:avLst/>
          </a:prstGeom>
          <a:solidFill>
            <a:srgbClr val="1241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traight Connector 23"/>
          <p:cNvSpPr/>
          <p:nvPr/>
        </p:nvSpPr>
        <p:spPr>
          <a:xfrm>
            <a:off x="250920" y="6575400"/>
            <a:ext cx="8678880" cy="0"/>
          </a:xfrm>
          <a:prstGeom prst="line">
            <a:avLst/>
          </a:prstGeom>
          <a:ln w="28440">
            <a:solidFill>
              <a:srgbClr val="ce1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Group 10"/>
          <p:cNvGrpSpPr/>
          <p:nvPr/>
        </p:nvGrpSpPr>
        <p:grpSpPr>
          <a:xfrm>
            <a:off x="250920" y="260280"/>
            <a:ext cx="1611360" cy="789120"/>
            <a:chOff x="250920" y="260280"/>
            <a:chExt cx="1611360" cy="789120"/>
          </a:xfrm>
        </p:grpSpPr>
        <p:sp>
          <p:nvSpPr>
            <p:cNvPr id="97" name="Rectangle 11"/>
            <p:cNvSpPr/>
            <p:nvPr/>
          </p:nvSpPr>
          <p:spPr>
            <a:xfrm flipH="1">
              <a:off x="250920" y="260280"/>
              <a:ext cx="1611360" cy="789120"/>
            </a:xfrm>
            <a:prstGeom prst="rect">
              <a:avLst/>
            </a:prstGeom>
            <a:solidFill>
              <a:srgbClr val="ce11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8" name="Picture 12" descr="USY_MB1_rgb_Reversed_Standard_Logo.png"/>
            <p:cNvPicPr/>
            <p:nvPr/>
          </p:nvPicPr>
          <p:blipFill>
            <a:blip r:embed="rId2"/>
            <a:stretch/>
          </p:blipFill>
          <p:spPr>
            <a:xfrm>
              <a:off x="422640" y="435240"/>
              <a:ext cx="1267920" cy="439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" name="Rectangle 1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7"/>
          <p:cNvSpPr/>
          <p:nvPr/>
        </p:nvSpPr>
        <p:spPr>
          <a:xfrm>
            <a:off x="1071720" y="0"/>
            <a:ext cx="8072280" cy="5786280"/>
          </a:xfrm>
          <a:prstGeom prst="rect">
            <a:avLst/>
          </a:prstGeom>
          <a:solidFill>
            <a:srgbClr val="f9b7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5"/>
          <p:cNvSpPr/>
          <p:nvPr/>
        </p:nvSpPr>
        <p:spPr>
          <a:xfrm>
            <a:off x="1071720" y="4200480"/>
            <a:ext cx="2303280" cy="2303640"/>
          </a:xfrm>
          <a:prstGeom prst="rect">
            <a:avLst/>
          </a:prstGeom>
          <a:solidFill>
            <a:srgbClr val="1241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20"/>
          <p:cNvSpPr/>
          <p:nvPr/>
        </p:nvSpPr>
        <p:spPr>
          <a:xfrm flipH="1">
            <a:off x="262080" y="5715000"/>
            <a:ext cx="1612800" cy="789120"/>
          </a:xfrm>
          <a:prstGeom prst="rect">
            <a:avLst/>
          </a:prstGeom>
          <a:solidFill>
            <a:srgbClr val="ce11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22" descr="USY_MB1_rgb_Reversed_Standard_Logo.png"/>
          <p:cNvPicPr/>
          <p:nvPr/>
        </p:nvPicPr>
        <p:blipFill>
          <a:blip r:embed="rId3"/>
          <a:stretch/>
        </p:blipFill>
        <p:spPr>
          <a:xfrm>
            <a:off x="433440" y="5889600"/>
            <a:ext cx="1268280" cy="4399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3" descr="ITLS-blue-red-no-text"/>
          <p:cNvPicPr/>
          <p:nvPr/>
        </p:nvPicPr>
        <p:blipFill>
          <a:blip r:embed="rId4"/>
          <a:stretch/>
        </p:blipFill>
        <p:spPr>
          <a:xfrm>
            <a:off x="8035920" y="5829480"/>
            <a:ext cx="1008000" cy="91584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250920" y="1357200"/>
            <a:ext cx="8663040" cy="50961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396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39640" indent="-17784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717480" indent="-17784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895320" indent="-17784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895320" indent="-177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895320" indent="-177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16"/>
          <p:cNvSpPr/>
          <p:nvPr/>
        </p:nvSpPr>
        <p:spPr>
          <a:xfrm flipH="1">
            <a:off x="928080" y="260280"/>
            <a:ext cx="8001000" cy="954000"/>
          </a:xfrm>
          <a:prstGeom prst="rect">
            <a:avLst/>
          </a:prstGeom>
          <a:solidFill>
            <a:srgbClr val="1241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traight Connector 23"/>
          <p:cNvSpPr/>
          <p:nvPr/>
        </p:nvSpPr>
        <p:spPr>
          <a:xfrm>
            <a:off x="250920" y="6575400"/>
            <a:ext cx="8678880" cy="0"/>
          </a:xfrm>
          <a:prstGeom prst="line">
            <a:avLst/>
          </a:prstGeom>
          <a:ln w="28440">
            <a:solidFill>
              <a:srgbClr val="ce1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Group 10"/>
          <p:cNvGrpSpPr/>
          <p:nvPr/>
        </p:nvGrpSpPr>
        <p:grpSpPr>
          <a:xfrm>
            <a:off x="250920" y="260280"/>
            <a:ext cx="1611360" cy="789120"/>
            <a:chOff x="250920" y="260280"/>
            <a:chExt cx="1611360" cy="789120"/>
          </a:xfrm>
        </p:grpSpPr>
        <p:sp>
          <p:nvSpPr>
            <p:cNvPr id="146" name="Rectangle 11"/>
            <p:cNvSpPr/>
            <p:nvPr/>
          </p:nvSpPr>
          <p:spPr>
            <a:xfrm flipH="1">
              <a:off x="250920" y="260280"/>
              <a:ext cx="1611360" cy="789120"/>
            </a:xfrm>
            <a:prstGeom prst="rect">
              <a:avLst/>
            </a:prstGeom>
            <a:solidFill>
              <a:srgbClr val="ce11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7" name="Picture 12" descr="USY_MB1_rgb_Reversed_Standard_Logo.png"/>
            <p:cNvPicPr/>
            <p:nvPr/>
          </p:nvPicPr>
          <p:blipFill>
            <a:blip r:embed="rId2"/>
            <a:stretch/>
          </p:blipFill>
          <p:spPr>
            <a:xfrm>
              <a:off x="422640" y="435240"/>
              <a:ext cx="1267920" cy="439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48" name="Picture 11" descr="lecture_theatre.jpg"/>
          <p:cNvPicPr/>
          <p:nvPr/>
        </p:nvPicPr>
        <p:blipFill>
          <a:blip r:embed="rId3"/>
          <a:srcRect l="12702" t="6509" r="5986" b="13735"/>
          <a:stretch/>
        </p:blipFill>
        <p:spPr>
          <a:xfrm>
            <a:off x="0" y="3357720"/>
            <a:ext cx="9144000" cy="3500280"/>
          </a:xfrm>
          <a:prstGeom prst="rect">
            <a:avLst/>
          </a:prstGeom>
          <a:ln w="0">
            <a:noFill/>
          </a:ln>
        </p:spPr>
      </p:pic>
      <p:sp>
        <p:nvSpPr>
          <p:cNvPr id="149" name="Rectangle 7"/>
          <p:cNvSpPr/>
          <p:nvPr/>
        </p:nvSpPr>
        <p:spPr>
          <a:xfrm>
            <a:off x="0" y="0"/>
            <a:ext cx="9144000" cy="3429000"/>
          </a:xfrm>
          <a:prstGeom prst="rect">
            <a:avLst/>
          </a:prstGeom>
          <a:solidFill>
            <a:srgbClr val="ce11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12"/>
          <p:cNvSpPr/>
          <p:nvPr/>
        </p:nvSpPr>
        <p:spPr>
          <a:xfrm>
            <a:off x="1071720" y="4200480"/>
            <a:ext cx="2303280" cy="2303640"/>
          </a:xfrm>
          <a:prstGeom prst="rect">
            <a:avLst/>
          </a:prstGeom>
          <a:solidFill>
            <a:srgbClr val="1241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3"/>
          <p:cNvSpPr/>
          <p:nvPr/>
        </p:nvSpPr>
        <p:spPr>
          <a:xfrm flipH="1">
            <a:off x="262080" y="5715000"/>
            <a:ext cx="1612800" cy="789120"/>
          </a:xfrm>
          <a:prstGeom prst="rect">
            <a:avLst/>
          </a:prstGeom>
          <a:solidFill>
            <a:srgbClr val="ce11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17" descr="USY_MB1_rgb_Reversed_Standard_Logo.png"/>
          <p:cNvPicPr/>
          <p:nvPr/>
        </p:nvPicPr>
        <p:blipFill>
          <a:blip r:embed="rId4"/>
          <a:stretch/>
        </p:blipFill>
        <p:spPr>
          <a:xfrm>
            <a:off x="433440" y="5889600"/>
            <a:ext cx="1268280" cy="43992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14"/>
          <p:cNvSpPr/>
          <p:nvPr/>
        </p:nvSpPr>
        <p:spPr>
          <a:xfrm>
            <a:off x="7539120" y="5105520"/>
            <a:ext cx="1390680" cy="14097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5" descr="ITLS-blue-red-no-text"/>
          <p:cNvPicPr/>
          <p:nvPr/>
        </p:nvPicPr>
        <p:blipFill>
          <a:blip r:embed="rId5"/>
          <a:stretch/>
        </p:blipFill>
        <p:spPr>
          <a:xfrm>
            <a:off x="7537320" y="5219640"/>
            <a:ext cx="1393920" cy="126684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250920" y="1357200"/>
            <a:ext cx="8663040" cy="50961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396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39640" indent="-17784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717480" indent="-17784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895320" indent="-17784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895320" indent="-177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895320" indent="-177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16"/>
          <p:cNvSpPr/>
          <p:nvPr/>
        </p:nvSpPr>
        <p:spPr>
          <a:xfrm flipH="1">
            <a:off x="928080" y="260280"/>
            <a:ext cx="8001000" cy="954000"/>
          </a:xfrm>
          <a:prstGeom prst="rect">
            <a:avLst/>
          </a:prstGeom>
          <a:solidFill>
            <a:srgbClr val="1241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Straight Connector 23"/>
          <p:cNvSpPr/>
          <p:nvPr/>
        </p:nvSpPr>
        <p:spPr>
          <a:xfrm>
            <a:off x="250920" y="6575400"/>
            <a:ext cx="8678880" cy="0"/>
          </a:xfrm>
          <a:prstGeom prst="line">
            <a:avLst/>
          </a:prstGeom>
          <a:ln w="28440">
            <a:solidFill>
              <a:srgbClr val="ce1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Group 10"/>
          <p:cNvGrpSpPr/>
          <p:nvPr/>
        </p:nvGrpSpPr>
        <p:grpSpPr>
          <a:xfrm>
            <a:off x="250920" y="260280"/>
            <a:ext cx="1611360" cy="789120"/>
            <a:chOff x="250920" y="260280"/>
            <a:chExt cx="1611360" cy="789120"/>
          </a:xfrm>
        </p:grpSpPr>
        <p:sp>
          <p:nvSpPr>
            <p:cNvPr id="196" name="Rectangle 11"/>
            <p:cNvSpPr/>
            <p:nvPr/>
          </p:nvSpPr>
          <p:spPr>
            <a:xfrm flipH="1">
              <a:off x="250920" y="260280"/>
              <a:ext cx="1611360" cy="789120"/>
            </a:xfrm>
            <a:prstGeom prst="rect">
              <a:avLst/>
            </a:prstGeom>
            <a:solidFill>
              <a:srgbClr val="ce11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7" name="Picture 12" descr="USY_MB1_rgb_Reversed_Standard_Logo.png"/>
            <p:cNvPicPr/>
            <p:nvPr/>
          </p:nvPicPr>
          <p:blipFill>
            <a:blip r:embed="rId2"/>
            <a:stretch/>
          </p:blipFill>
          <p:spPr>
            <a:xfrm>
              <a:off x="422640" y="435240"/>
              <a:ext cx="1267920" cy="439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98" name="Picture 11" descr="quad copy.jpg"/>
          <p:cNvPicPr/>
          <p:nvPr/>
        </p:nvPicPr>
        <p:blipFill>
          <a:blip r:embed="rId3"/>
          <a:srcRect l="21188" t="0" r="1320" b="22060"/>
          <a:stretch/>
        </p:blipFill>
        <p:spPr>
          <a:xfrm>
            <a:off x="0" y="3071880"/>
            <a:ext cx="9144000" cy="3786120"/>
          </a:xfrm>
          <a:prstGeom prst="rect">
            <a:avLst/>
          </a:prstGeom>
          <a:ln w="0">
            <a:noFill/>
          </a:ln>
        </p:spPr>
      </p:pic>
      <p:sp>
        <p:nvSpPr>
          <p:cNvPr id="199" name="Rectangle 7"/>
          <p:cNvSpPr/>
          <p:nvPr/>
        </p:nvSpPr>
        <p:spPr>
          <a:xfrm>
            <a:off x="0" y="0"/>
            <a:ext cx="9144000" cy="3429000"/>
          </a:xfrm>
          <a:prstGeom prst="rect">
            <a:avLst/>
          </a:prstGeom>
          <a:solidFill>
            <a:srgbClr val="f9b7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13"/>
          <p:cNvSpPr/>
          <p:nvPr/>
        </p:nvSpPr>
        <p:spPr>
          <a:xfrm>
            <a:off x="1071720" y="4200480"/>
            <a:ext cx="2303280" cy="2303640"/>
          </a:xfrm>
          <a:prstGeom prst="rect">
            <a:avLst/>
          </a:prstGeom>
          <a:solidFill>
            <a:srgbClr val="1241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19"/>
          <p:cNvSpPr/>
          <p:nvPr/>
        </p:nvSpPr>
        <p:spPr>
          <a:xfrm flipH="1">
            <a:off x="262080" y="5715000"/>
            <a:ext cx="1612800" cy="789120"/>
          </a:xfrm>
          <a:prstGeom prst="rect">
            <a:avLst/>
          </a:prstGeom>
          <a:solidFill>
            <a:srgbClr val="ce11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20" descr="USY_MB1_rgb_Reversed_Standard_Logo.png"/>
          <p:cNvPicPr/>
          <p:nvPr/>
        </p:nvPicPr>
        <p:blipFill>
          <a:blip r:embed="rId4"/>
          <a:stretch/>
        </p:blipFill>
        <p:spPr>
          <a:xfrm>
            <a:off x="433440" y="5889600"/>
            <a:ext cx="1268280" cy="439920"/>
          </a:xfrm>
          <a:prstGeom prst="rect">
            <a:avLst/>
          </a:prstGeom>
          <a:ln w="0">
            <a:noFill/>
          </a:ln>
        </p:spPr>
      </p:pic>
      <p:sp>
        <p:nvSpPr>
          <p:cNvPr id="203" name="Rectangle 12"/>
          <p:cNvSpPr/>
          <p:nvPr/>
        </p:nvSpPr>
        <p:spPr>
          <a:xfrm>
            <a:off x="7539120" y="5105520"/>
            <a:ext cx="1390680" cy="14097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16" descr="ITLS-blue-red-no-text"/>
          <p:cNvPicPr/>
          <p:nvPr/>
        </p:nvPicPr>
        <p:blipFill>
          <a:blip r:embed="rId5"/>
          <a:stretch/>
        </p:blipFill>
        <p:spPr>
          <a:xfrm>
            <a:off x="7537320" y="5219640"/>
            <a:ext cx="1393920" cy="126684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250920" y="1357200"/>
            <a:ext cx="8663040" cy="50961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396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39640" indent="-17784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717480" indent="-17784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895320" indent="-17784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895320" indent="-177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895320" indent="-177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16"/>
          <p:cNvSpPr/>
          <p:nvPr/>
        </p:nvSpPr>
        <p:spPr>
          <a:xfrm flipH="1">
            <a:off x="928080" y="260280"/>
            <a:ext cx="8001000" cy="954000"/>
          </a:xfrm>
          <a:prstGeom prst="rect">
            <a:avLst/>
          </a:prstGeom>
          <a:solidFill>
            <a:srgbClr val="1241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Straight Connector 23"/>
          <p:cNvSpPr/>
          <p:nvPr/>
        </p:nvSpPr>
        <p:spPr>
          <a:xfrm>
            <a:off x="250920" y="6575400"/>
            <a:ext cx="8678880" cy="0"/>
          </a:xfrm>
          <a:prstGeom prst="line">
            <a:avLst/>
          </a:prstGeom>
          <a:ln w="28440">
            <a:solidFill>
              <a:srgbClr val="ce1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" name="Group 10"/>
          <p:cNvGrpSpPr/>
          <p:nvPr/>
        </p:nvGrpSpPr>
        <p:grpSpPr>
          <a:xfrm>
            <a:off x="250920" y="260280"/>
            <a:ext cx="1611360" cy="789120"/>
            <a:chOff x="250920" y="260280"/>
            <a:chExt cx="1611360" cy="789120"/>
          </a:xfrm>
        </p:grpSpPr>
        <p:sp>
          <p:nvSpPr>
            <p:cNvPr id="246" name="Rectangle 11"/>
            <p:cNvSpPr/>
            <p:nvPr/>
          </p:nvSpPr>
          <p:spPr>
            <a:xfrm flipH="1">
              <a:off x="250920" y="260280"/>
              <a:ext cx="1611360" cy="789120"/>
            </a:xfrm>
            <a:prstGeom prst="rect">
              <a:avLst/>
            </a:prstGeom>
            <a:solidFill>
              <a:srgbClr val="ce11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47" name="Picture 12" descr="USY_MB1_rgb_Reversed_Standard_Logo.png"/>
            <p:cNvPicPr/>
            <p:nvPr/>
          </p:nvPicPr>
          <p:blipFill>
            <a:blip r:embed="rId2"/>
            <a:stretch/>
          </p:blipFill>
          <p:spPr>
            <a:xfrm>
              <a:off x="422640" y="435240"/>
              <a:ext cx="1267920" cy="439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48" name="Picture 11" descr="science_lab copy.jpg"/>
          <p:cNvPicPr/>
          <p:nvPr/>
        </p:nvPicPr>
        <p:blipFill>
          <a:blip r:embed="rId3"/>
          <a:stretch/>
        </p:blipFill>
        <p:spPr>
          <a:xfrm>
            <a:off x="0" y="3246480"/>
            <a:ext cx="9144000" cy="3611520"/>
          </a:xfrm>
          <a:prstGeom prst="rect">
            <a:avLst/>
          </a:prstGeom>
          <a:ln w="0">
            <a:noFill/>
          </a:ln>
        </p:spPr>
      </p:pic>
      <p:sp>
        <p:nvSpPr>
          <p:cNvPr id="249" name="Rectangle 7"/>
          <p:cNvSpPr/>
          <p:nvPr/>
        </p:nvSpPr>
        <p:spPr>
          <a:xfrm>
            <a:off x="0" y="0"/>
            <a:ext cx="9144000" cy="3429000"/>
          </a:xfrm>
          <a:prstGeom prst="rect">
            <a:avLst/>
          </a:prstGeom>
          <a:solidFill>
            <a:srgbClr val="1241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18"/>
          <p:cNvSpPr/>
          <p:nvPr/>
        </p:nvSpPr>
        <p:spPr>
          <a:xfrm>
            <a:off x="1071720" y="4200480"/>
            <a:ext cx="2303280" cy="2303640"/>
          </a:xfrm>
          <a:prstGeom prst="rect">
            <a:avLst/>
          </a:prstGeom>
          <a:solidFill>
            <a:srgbClr val="1241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19"/>
          <p:cNvSpPr/>
          <p:nvPr/>
        </p:nvSpPr>
        <p:spPr>
          <a:xfrm flipH="1">
            <a:off x="262080" y="5715000"/>
            <a:ext cx="1612800" cy="789120"/>
          </a:xfrm>
          <a:prstGeom prst="rect">
            <a:avLst/>
          </a:prstGeom>
          <a:solidFill>
            <a:srgbClr val="ce11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20" descr="USY_MB1_rgb_Reversed_Standard_Logo.png"/>
          <p:cNvPicPr/>
          <p:nvPr/>
        </p:nvPicPr>
        <p:blipFill>
          <a:blip r:embed="rId4"/>
          <a:stretch/>
        </p:blipFill>
        <p:spPr>
          <a:xfrm>
            <a:off x="433440" y="5889600"/>
            <a:ext cx="1268280" cy="439920"/>
          </a:xfrm>
          <a:prstGeom prst="rect">
            <a:avLst/>
          </a:prstGeom>
          <a:ln w="0">
            <a:noFill/>
          </a:ln>
        </p:spPr>
      </p:pic>
      <p:sp>
        <p:nvSpPr>
          <p:cNvPr id="253" name="Rectangle 12"/>
          <p:cNvSpPr/>
          <p:nvPr/>
        </p:nvSpPr>
        <p:spPr>
          <a:xfrm>
            <a:off x="7539120" y="5105520"/>
            <a:ext cx="1390680" cy="140976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16" descr="ITLS-blue-red-no-text"/>
          <p:cNvPicPr/>
          <p:nvPr/>
        </p:nvPicPr>
        <p:blipFill>
          <a:blip r:embed="rId5"/>
          <a:stretch/>
        </p:blipFill>
        <p:spPr>
          <a:xfrm>
            <a:off x="7537320" y="5219640"/>
            <a:ext cx="1393920" cy="1266840"/>
          </a:xfrm>
          <a:prstGeom prst="rect">
            <a:avLst/>
          </a:prstGeom>
          <a:ln w="0">
            <a:noFill/>
          </a:ln>
        </p:spPr>
      </p:pic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250920" y="1357200"/>
            <a:ext cx="8663040" cy="50961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396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39640" indent="-17784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717480" indent="-17784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895320" indent="-17784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895320" indent="-177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895320" indent="-177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16"/>
          <p:cNvSpPr/>
          <p:nvPr/>
        </p:nvSpPr>
        <p:spPr>
          <a:xfrm flipH="1">
            <a:off x="928080" y="260280"/>
            <a:ext cx="8001000" cy="954000"/>
          </a:xfrm>
          <a:prstGeom prst="rect">
            <a:avLst/>
          </a:prstGeom>
          <a:solidFill>
            <a:srgbClr val="1241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Straight Connector 23"/>
          <p:cNvSpPr/>
          <p:nvPr/>
        </p:nvSpPr>
        <p:spPr>
          <a:xfrm>
            <a:off x="250920" y="6575400"/>
            <a:ext cx="8678880" cy="0"/>
          </a:xfrm>
          <a:prstGeom prst="line">
            <a:avLst/>
          </a:prstGeom>
          <a:ln w="28440">
            <a:solidFill>
              <a:srgbClr val="ce1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5" name="Group 10"/>
          <p:cNvGrpSpPr/>
          <p:nvPr/>
        </p:nvGrpSpPr>
        <p:grpSpPr>
          <a:xfrm>
            <a:off x="250920" y="260280"/>
            <a:ext cx="1611360" cy="789120"/>
            <a:chOff x="250920" y="260280"/>
            <a:chExt cx="1611360" cy="789120"/>
          </a:xfrm>
        </p:grpSpPr>
        <p:sp>
          <p:nvSpPr>
            <p:cNvPr id="296" name="Rectangle 11"/>
            <p:cNvSpPr/>
            <p:nvPr/>
          </p:nvSpPr>
          <p:spPr>
            <a:xfrm flipH="1">
              <a:off x="250920" y="260280"/>
              <a:ext cx="1611360" cy="789120"/>
            </a:xfrm>
            <a:prstGeom prst="rect">
              <a:avLst/>
            </a:prstGeom>
            <a:solidFill>
              <a:srgbClr val="ce11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97" name="Picture 12" descr="USY_MB1_rgb_Reversed_Standard_Logo.png"/>
            <p:cNvPicPr/>
            <p:nvPr/>
          </p:nvPicPr>
          <p:blipFill>
            <a:blip r:embed="rId2"/>
            <a:stretch/>
          </p:blipFill>
          <p:spPr>
            <a:xfrm>
              <a:off x="422640" y="435240"/>
              <a:ext cx="1267920" cy="439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8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11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31"/>
          <p:cNvSpPr/>
          <p:nvPr/>
        </p:nvSpPr>
        <p:spPr>
          <a:xfrm flipH="1">
            <a:off x="0" y="571500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0" name="Group 18"/>
          <p:cNvGrpSpPr/>
          <p:nvPr/>
        </p:nvGrpSpPr>
        <p:grpSpPr>
          <a:xfrm>
            <a:off x="223920" y="5248440"/>
            <a:ext cx="1990800" cy="1358640"/>
            <a:chOff x="223920" y="5248440"/>
            <a:chExt cx="1990800" cy="1358640"/>
          </a:xfrm>
        </p:grpSpPr>
        <p:sp>
          <p:nvSpPr>
            <p:cNvPr id="301" name="Rectangle 32"/>
            <p:cNvSpPr/>
            <p:nvPr/>
          </p:nvSpPr>
          <p:spPr>
            <a:xfrm>
              <a:off x="854280" y="5248440"/>
              <a:ext cx="1360440" cy="1358640"/>
            </a:xfrm>
            <a:prstGeom prst="rect">
              <a:avLst/>
            </a:prstGeom>
            <a:solidFill>
              <a:srgbClr val="1241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2" name="Group 14"/>
            <p:cNvGrpSpPr/>
            <p:nvPr/>
          </p:nvGrpSpPr>
          <p:grpSpPr>
            <a:xfrm>
              <a:off x="223920" y="5967360"/>
              <a:ext cx="1268640" cy="639720"/>
              <a:chOff x="223920" y="5967360"/>
              <a:chExt cx="1268640" cy="639720"/>
            </a:xfrm>
          </p:grpSpPr>
          <p:sp>
            <p:nvSpPr>
              <p:cNvPr id="303" name="Rectangle 15"/>
              <p:cNvSpPr/>
              <p:nvPr/>
            </p:nvSpPr>
            <p:spPr>
              <a:xfrm flipH="1">
                <a:off x="223920" y="5967360"/>
                <a:ext cx="1268640" cy="639720"/>
              </a:xfrm>
              <a:prstGeom prst="rect">
                <a:avLst/>
              </a:prstGeom>
              <a:solidFill>
                <a:srgbClr val="ce11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04" name="Picture 17" descr="USY_MB1_rgb_Reversed_Standard_Logo.png"/>
              <p:cNvPicPr/>
              <p:nvPr/>
            </p:nvPicPr>
            <p:blipFill>
              <a:blip r:embed="rId3"/>
              <a:stretch/>
            </p:blipFill>
            <p:spPr>
              <a:xfrm>
                <a:off x="358920" y="6108480"/>
                <a:ext cx="997920" cy="3564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250920" y="1357200"/>
            <a:ext cx="8663040" cy="50961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396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39640" indent="-17784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717480" indent="-17784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895320" indent="-17784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895320" indent="-177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895320" indent="-177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16"/>
          <p:cNvSpPr/>
          <p:nvPr/>
        </p:nvSpPr>
        <p:spPr>
          <a:xfrm flipH="1">
            <a:off x="928080" y="260280"/>
            <a:ext cx="8001000" cy="954000"/>
          </a:xfrm>
          <a:prstGeom prst="rect">
            <a:avLst/>
          </a:prstGeom>
          <a:solidFill>
            <a:srgbClr val="1241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Straight Connector 23"/>
          <p:cNvSpPr/>
          <p:nvPr/>
        </p:nvSpPr>
        <p:spPr>
          <a:xfrm>
            <a:off x="250920" y="6575400"/>
            <a:ext cx="8678880" cy="0"/>
          </a:xfrm>
          <a:prstGeom prst="line">
            <a:avLst/>
          </a:prstGeom>
          <a:ln w="28440">
            <a:solidFill>
              <a:srgbClr val="ce1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5" name="Group 10"/>
          <p:cNvGrpSpPr/>
          <p:nvPr/>
        </p:nvGrpSpPr>
        <p:grpSpPr>
          <a:xfrm>
            <a:off x="250920" y="260280"/>
            <a:ext cx="1611360" cy="789120"/>
            <a:chOff x="250920" y="260280"/>
            <a:chExt cx="1611360" cy="789120"/>
          </a:xfrm>
        </p:grpSpPr>
        <p:sp>
          <p:nvSpPr>
            <p:cNvPr id="346" name="Rectangle 11"/>
            <p:cNvSpPr/>
            <p:nvPr/>
          </p:nvSpPr>
          <p:spPr>
            <a:xfrm flipH="1">
              <a:off x="250920" y="260280"/>
              <a:ext cx="1611360" cy="789120"/>
            </a:xfrm>
            <a:prstGeom prst="rect">
              <a:avLst/>
            </a:prstGeom>
            <a:solidFill>
              <a:srgbClr val="ce11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47" name="Picture 12" descr="USY_MB1_rgb_Reversed_Standard_Logo.png"/>
            <p:cNvPicPr/>
            <p:nvPr/>
          </p:nvPicPr>
          <p:blipFill>
            <a:blip r:embed="rId2"/>
            <a:stretch/>
          </p:blipFill>
          <p:spPr>
            <a:xfrm>
              <a:off x="422640" y="435240"/>
              <a:ext cx="1267920" cy="439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48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9b7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11"/>
          <p:cNvSpPr/>
          <p:nvPr/>
        </p:nvSpPr>
        <p:spPr>
          <a:xfrm flipH="1">
            <a:off x="0" y="571500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Group 14"/>
          <p:cNvGrpSpPr/>
          <p:nvPr/>
        </p:nvGrpSpPr>
        <p:grpSpPr>
          <a:xfrm>
            <a:off x="223920" y="5248440"/>
            <a:ext cx="1990800" cy="1358640"/>
            <a:chOff x="223920" y="5248440"/>
            <a:chExt cx="1990800" cy="1358640"/>
          </a:xfrm>
        </p:grpSpPr>
        <p:sp>
          <p:nvSpPr>
            <p:cNvPr id="351" name="Rectangle 17"/>
            <p:cNvSpPr/>
            <p:nvPr/>
          </p:nvSpPr>
          <p:spPr>
            <a:xfrm>
              <a:off x="854280" y="5248440"/>
              <a:ext cx="1360440" cy="1358640"/>
            </a:xfrm>
            <a:prstGeom prst="rect">
              <a:avLst/>
            </a:prstGeom>
            <a:solidFill>
              <a:srgbClr val="1241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2" name="Group 14"/>
            <p:cNvGrpSpPr/>
            <p:nvPr/>
          </p:nvGrpSpPr>
          <p:grpSpPr>
            <a:xfrm>
              <a:off x="223920" y="5967360"/>
              <a:ext cx="1268640" cy="639720"/>
              <a:chOff x="223920" y="5967360"/>
              <a:chExt cx="1268640" cy="639720"/>
            </a:xfrm>
          </p:grpSpPr>
          <p:sp>
            <p:nvSpPr>
              <p:cNvPr id="353" name="Rectangle 19"/>
              <p:cNvSpPr/>
              <p:nvPr/>
            </p:nvSpPr>
            <p:spPr>
              <a:xfrm flipH="1">
                <a:off x="223920" y="5967360"/>
                <a:ext cx="1268640" cy="639720"/>
              </a:xfrm>
              <a:prstGeom prst="rect">
                <a:avLst/>
              </a:prstGeom>
              <a:solidFill>
                <a:srgbClr val="ce11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54" name="Picture 20" descr="USY_MB1_rgb_Reversed_Standard_Logo.png"/>
              <p:cNvPicPr/>
              <p:nvPr/>
            </p:nvPicPr>
            <p:blipFill>
              <a:blip r:embed="rId3"/>
              <a:stretch/>
            </p:blipFill>
            <p:spPr>
              <a:xfrm>
                <a:off x="358920" y="6108480"/>
                <a:ext cx="997920" cy="3564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250920" y="1357200"/>
            <a:ext cx="8663040" cy="50961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396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39640" indent="-17784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717480" indent="-17784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895320" indent="-17784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895320" indent="-177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895320" indent="-177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16"/>
          <p:cNvSpPr/>
          <p:nvPr/>
        </p:nvSpPr>
        <p:spPr>
          <a:xfrm flipH="1">
            <a:off x="928080" y="260280"/>
            <a:ext cx="8001000" cy="954000"/>
          </a:xfrm>
          <a:prstGeom prst="rect">
            <a:avLst/>
          </a:prstGeom>
          <a:solidFill>
            <a:srgbClr val="1241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Straight Connector 23"/>
          <p:cNvSpPr/>
          <p:nvPr/>
        </p:nvSpPr>
        <p:spPr>
          <a:xfrm>
            <a:off x="250920" y="6575400"/>
            <a:ext cx="8678880" cy="0"/>
          </a:xfrm>
          <a:prstGeom prst="line">
            <a:avLst/>
          </a:prstGeom>
          <a:ln w="28440">
            <a:solidFill>
              <a:srgbClr val="ce1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5" name="Group 10"/>
          <p:cNvGrpSpPr/>
          <p:nvPr/>
        </p:nvGrpSpPr>
        <p:grpSpPr>
          <a:xfrm>
            <a:off x="250920" y="260280"/>
            <a:ext cx="1611360" cy="789120"/>
            <a:chOff x="250920" y="260280"/>
            <a:chExt cx="1611360" cy="789120"/>
          </a:xfrm>
        </p:grpSpPr>
        <p:sp>
          <p:nvSpPr>
            <p:cNvPr id="396" name="Rectangle 11"/>
            <p:cNvSpPr/>
            <p:nvPr/>
          </p:nvSpPr>
          <p:spPr>
            <a:xfrm flipH="1">
              <a:off x="250920" y="260280"/>
              <a:ext cx="1611360" cy="789120"/>
            </a:xfrm>
            <a:prstGeom prst="rect">
              <a:avLst/>
            </a:prstGeom>
            <a:solidFill>
              <a:srgbClr val="ce11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97" name="Picture 12" descr="USY_MB1_rgb_Reversed_Standard_Logo.png"/>
            <p:cNvPicPr/>
            <p:nvPr/>
          </p:nvPicPr>
          <p:blipFill>
            <a:blip r:embed="rId2"/>
            <a:stretch/>
          </p:blipFill>
          <p:spPr>
            <a:xfrm>
              <a:off x="422640" y="435240"/>
              <a:ext cx="1267920" cy="439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250920" y="1357200"/>
            <a:ext cx="8663040" cy="50961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396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39640" indent="-17784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717480" indent="-17784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895320" indent="-17784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895320" indent="-177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895320" indent="-17784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4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7.wmf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9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2.wmf"/><Relationship Id="rId3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3.wmf"/><Relationship Id="rId3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4.wmf"/><Relationship Id="rId3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5.wmf"/><Relationship Id="rId3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6.wmf"/><Relationship Id="rId3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7.wmf"/><Relationship Id="rId3" Type="http://schemas.openxmlformats.org/officeDocument/2006/relationships/slideLayout" Target="../slideLayouts/slideLayout97.xml"/><Relationship Id="rId4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image" Target="../media/image61.png"/><Relationship Id="rId3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3.wmf"/><Relationship Id="rId3" Type="http://schemas.openxmlformats.org/officeDocument/2006/relationships/slideLayout" Target="../slideLayouts/slideLayout97.xml"/><Relationship Id="rId4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4.wmf"/><Relationship Id="rId3" Type="http://schemas.openxmlformats.org/officeDocument/2006/relationships/image" Target="../media/image6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7.wmf"/><Relationship Id="rId3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8.wmf"/><Relationship Id="rId3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9.wmf"/><Relationship Id="rId3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0.wmf"/><Relationship Id="rId3" Type="http://schemas.openxmlformats.org/officeDocument/2006/relationships/slideLayout" Target="../slideLayouts/slideLayout97.xml"/><Relationship Id="rId4" Type="http://schemas.openxmlformats.org/officeDocument/2006/relationships/notesSlide" Target="../notesSlides/notesSlide8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71.png"/><Relationship Id="rId2" Type="http://schemas.openxmlformats.org/officeDocument/2006/relationships/slideLayout" Target="../slideLayouts/slideLayout97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72.png"/><Relationship Id="rId2" Type="http://schemas.openxmlformats.org/officeDocument/2006/relationships/image" Target="../media/image7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332000" y="285840"/>
            <a:ext cx="7704000" cy="1000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ts val="30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Mixed Multinomial Logit Mod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3429000" y="5286240"/>
            <a:ext cx="5572080" cy="28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4600" indent="-174600" algn="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Arial"/>
              </a:rPr>
              <a:t>DCA| 18-22 August 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3429000" y="5000400"/>
            <a:ext cx="5572080" cy="28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/>
          </a:bodyPr>
          <a:p>
            <a:pPr marL="174600" indent="-174600" algn="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Subtitle 12"/>
          <p:cNvSpPr/>
          <p:nvPr/>
        </p:nvSpPr>
        <p:spPr>
          <a:xfrm>
            <a:off x="1332000" y="1362240"/>
            <a:ext cx="77040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0000"/>
          </a:bodyPr>
          <a:p>
            <a:pPr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  <a:ea typeface="Arial"/>
              </a:rPr>
              <a:t>AKA the mixed logit (ML)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  <a:ea typeface="Arial"/>
              </a:rPr>
              <a:t>AKA random parameter logit (RPL)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Rectangle 5"/>
          <p:cNvSpPr/>
          <p:nvPr/>
        </p:nvSpPr>
        <p:spPr>
          <a:xfrm>
            <a:off x="1019160" y="3330720"/>
            <a:ext cx="812484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1800" spc="-1" strike="noStrike">
                <a:solidFill>
                  <a:srgbClr val="ffffff"/>
                </a:solidFill>
                <a:latin typeface="Arial"/>
                <a:ea typeface="Arial"/>
              </a:rPr>
              <a:t>Reference Source:</a:t>
            </a:r>
            <a:r>
              <a:rPr b="0" lang="en-AU" sz="1800" spc="-1" strike="noStrike">
                <a:solidFill>
                  <a:srgbClr val="ffffff"/>
                </a:solidFill>
                <a:latin typeface="Arial"/>
                <a:ea typeface="Arial"/>
              </a:rPr>
              <a:t> Hensher, D.A., Rose, J.M., and Greene, W.H. (2005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1800" spc="-1" strike="noStrike">
                <a:solidFill>
                  <a:srgbClr val="ffffff"/>
                </a:solidFill>
                <a:latin typeface="Arial"/>
                <a:ea typeface="Arial"/>
              </a:rPr>
              <a:t>Applied Choice Analysis: A Primer</a:t>
            </a:r>
            <a:r>
              <a:rPr b="0" lang="en-AU" sz="1800" spc="-1" strike="noStrike">
                <a:solidFill>
                  <a:srgbClr val="ffffff"/>
                </a:solidFill>
                <a:latin typeface="Arial"/>
                <a:ea typeface="Arial"/>
              </a:rPr>
              <a:t>, Cambridge University Press, Cambridge (Second edition to appear 201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1" name="Picture 2" descr=""/>
          <p:cNvPicPr/>
          <p:nvPr/>
        </p:nvPicPr>
        <p:blipFill>
          <a:blip r:embed="rId1"/>
          <a:stretch/>
        </p:blipFill>
        <p:spPr>
          <a:xfrm>
            <a:off x="185760" y="2905200"/>
            <a:ext cx="4033800" cy="3362400"/>
          </a:xfrm>
          <a:prstGeom prst="rect">
            <a:avLst/>
          </a:prstGeom>
          <a:ln w="0">
            <a:noFill/>
          </a:ln>
        </p:spPr>
      </p:pic>
      <p:pic>
        <p:nvPicPr>
          <p:cNvPr id="492" name="Picture 4" descr=""/>
          <p:cNvPicPr/>
          <p:nvPr/>
        </p:nvPicPr>
        <p:blipFill>
          <a:blip r:embed="rId2"/>
          <a:stretch/>
        </p:blipFill>
        <p:spPr>
          <a:xfrm>
            <a:off x="4219560" y="2952720"/>
            <a:ext cx="4908600" cy="3333960"/>
          </a:xfrm>
          <a:prstGeom prst="rect">
            <a:avLst/>
          </a:prstGeom>
          <a:ln w="0">
            <a:noFill/>
          </a:ln>
        </p:spPr>
      </p:pic>
      <p:pic>
        <p:nvPicPr>
          <p:cNvPr id="493" name="Picture 5" descr=""/>
          <p:cNvPicPr/>
          <p:nvPr/>
        </p:nvPicPr>
        <p:blipFill>
          <a:blip r:embed="rId3"/>
          <a:stretch/>
        </p:blipFill>
        <p:spPr>
          <a:xfrm>
            <a:off x="1376280" y="1300320"/>
            <a:ext cx="6715080" cy="1590480"/>
          </a:xfrm>
          <a:prstGeom prst="rect">
            <a:avLst/>
          </a:prstGeom>
          <a:ln w="0">
            <a:noFill/>
          </a:ln>
        </p:spPr>
      </p:pic>
      <p:sp>
        <p:nvSpPr>
          <p:cNvPr id="494" name="Title 4"/>
          <p:cNvSpPr/>
          <p:nvPr/>
        </p:nvSpPr>
        <p:spPr>
          <a:xfrm>
            <a:off x="1857240" y="428760"/>
            <a:ext cx="705672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MNL model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  <a:ea typeface="Arial"/>
              </a:rPr>
              <a:t>: Heterogeneity of prefer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MNL model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: Heterogeneity of preferen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250920" y="1773360"/>
            <a:ext cx="8663040" cy="468000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rmAutofit/>
          </a:bodyPr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Another way of writing the utility function of the MMNL model 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74600" indent="-174600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AU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= respondent, </a:t>
            </a:r>
            <a:r>
              <a:rPr b="0" i="1" lang="en-AU" sz="20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= alternative, </a:t>
            </a:r>
            <a:r>
              <a:rPr b="0" i="1" lang="en-AU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= attribute and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ε</a:t>
            </a:r>
            <a:r>
              <a:rPr b="0" i="1" lang="en-AU" sz="2000" spc="-1" strike="noStrike" baseline="-25000">
                <a:solidFill>
                  <a:srgbClr val="000000"/>
                </a:solidFill>
                <a:latin typeface="Arial"/>
              </a:rPr>
              <a:t>nj</a:t>
            </a:r>
            <a:r>
              <a:rPr b="0" i="1" lang="en-AU" sz="2000" spc="-1" strike="noStrike">
                <a:solidFill>
                  <a:srgbClr val="000000"/>
                </a:solidFill>
                <a:latin typeface="Arial"/>
              </a:rPr>
              <a:t>~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IID EV1 and where </a:t>
            </a:r>
            <a:r>
              <a:rPr b="0" i="1" lang="el-GR" sz="20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i="1" lang="en-AU" sz="2000" spc="-1" strike="noStrike" baseline="-25000">
                <a:solidFill>
                  <a:srgbClr val="000000"/>
                </a:solidFill>
                <a:latin typeface="Arial"/>
              </a:rPr>
              <a:t>nk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~</a:t>
            </a:r>
            <a:r>
              <a:rPr b="0" i="1" lang="en-AU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l-GR" sz="20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i="1" lang="en-AU" sz="2000" spc="-1" strike="noStrike" baseline="-25000">
                <a:solidFill>
                  <a:srgbClr val="000000"/>
                </a:solidFill>
                <a:latin typeface="Arial"/>
              </a:rPr>
              <a:t>nk</a:t>
            </a:r>
            <a:r>
              <a:rPr b="0" i="1" lang="en-AU" sz="20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az-Cyrl-AZ" sz="2000" spc="-1" strike="noStrike">
                <a:solidFill>
                  <a:srgbClr val="000000"/>
                </a:solidFill>
                <a:latin typeface="Calibri"/>
              </a:rPr>
              <a:t>Ѳ</a:t>
            </a:r>
            <a:r>
              <a:rPr b="0" lang="en-AU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Note however that the resulting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  choice probabilities are now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         dependent on the value of </a:t>
            </a:r>
            <a:r>
              <a:rPr b="0" i="1" lang="el-GR" sz="20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i="1" lang="en-AU" sz="2000" spc="-1" strike="noStrike" baseline="-25000">
                <a:solidFill>
                  <a:srgbClr val="000000"/>
                </a:solidFill>
                <a:latin typeface="Arial"/>
              </a:rPr>
              <a:t>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663040" cy="4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ts val="1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Or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Slide Number Placeholder 3"/>
          <p:cNvSpPr/>
          <p:nvPr/>
        </p:nvSpPr>
        <p:spPr>
          <a:xfrm>
            <a:off x="8664480" y="6586560"/>
            <a:ext cx="249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708C0-C071-4478-9C82-6B62C692EF17}" type="slidenum">
              <a:rPr b="0" lang="en-US" sz="900" spc="-1" strike="noStrike">
                <a:solidFill>
                  <a:srgbClr val="ce1126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9" name="Object 2"/>
          <p:cNvGraphicFramePr/>
          <p:nvPr/>
        </p:nvGraphicFramePr>
        <p:xfrm>
          <a:off x="817560" y="2084400"/>
          <a:ext cx="3173400" cy="108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17560" y="2084400"/>
                    <a:ext cx="3173400" cy="108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1" name="Object 8"/>
          <p:cNvGraphicFramePr/>
          <p:nvPr/>
        </p:nvGraphicFramePr>
        <p:xfrm>
          <a:off x="4521240" y="3817800"/>
          <a:ext cx="3300480" cy="2264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02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21240" y="3817800"/>
                    <a:ext cx="3300480" cy="22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285480" y="1777680"/>
            <a:ext cx="759924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MNL Model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: Relaxing I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7892640" y="1777680"/>
            <a:ext cx="1143000" cy="1079640"/>
          </a:xfrm>
          <a:prstGeom prst="rect">
            <a:avLst/>
          </a:prstGeom>
          <a:noFill/>
          <a:ln w="0">
            <a:noFill/>
          </a:ln>
        </p:spPr>
        <p:txBody>
          <a:bodyPr lIns="0" anchor="ctr">
            <a:normAutofit/>
          </a:bodyPr>
          <a:p>
            <a:pPr marL="174600" indent="0" algn="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MNL model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: Relaxation of I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250920" y="3011040"/>
            <a:ext cx="8663040" cy="218916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rmAutofit/>
          </a:bodyPr>
          <a:p>
            <a:pPr marL="174600" indent="-174600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  “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Variance in the unobserved individual-specific parameters induces correlation over alternatives in the stochastic portion of utility. As a result, MMNL model does not exhibit the restrictive forecasting patterns of standard logit (i.e., it does not exhibit independence from irrelevant alternatives)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283f6e"/>
                </a:solidFill>
                <a:latin typeface="Arial"/>
              </a:rPr>
              <a:t>	</a:t>
            </a:r>
            <a:r>
              <a:rPr b="0" lang="en-AU" sz="2000" spc="-1" strike="noStrike">
                <a:solidFill>
                  <a:srgbClr val="283f6e"/>
                </a:solidFill>
                <a:latin typeface="Arial"/>
              </a:rPr>
              <a:t>	</a:t>
            </a:r>
            <a:r>
              <a:rPr b="0" lang="en-AU" sz="2000" spc="-1" strike="noStrike">
                <a:solidFill>
                  <a:srgbClr val="283f6e"/>
                </a:solidFill>
                <a:latin typeface="Arial"/>
              </a:rPr>
              <a:t>	</a:t>
            </a:r>
            <a:r>
              <a:rPr b="0" lang="en-AU" sz="2000" spc="-1" strike="noStrike">
                <a:solidFill>
                  <a:srgbClr val="283f6e"/>
                </a:solidFill>
                <a:latin typeface="Arial"/>
              </a:rPr>
              <a:t>	</a:t>
            </a:r>
            <a:r>
              <a:rPr b="0" lang="en-AU" sz="2000" spc="-1" strike="noStrike">
                <a:solidFill>
                  <a:srgbClr val="283f6e"/>
                </a:solidFill>
                <a:latin typeface="Arial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Revelt and Train (199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212760" y="1963440"/>
            <a:ext cx="8663040" cy="48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ts val="1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IID and the MMN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Slide Number Placeholder 3"/>
          <p:cNvSpPr/>
          <p:nvPr/>
        </p:nvSpPr>
        <p:spPr>
          <a:xfrm>
            <a:off x="8664480" y="6586560"/>
            <a:ext cx="249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6CF1C-429F-4D24-B11B-9CB62C7C5598}" type="slidenum">
              <a:rPr b="0" lang="en-US" sz="900" spc="-1" strike="noStrike">
                <a:solidFill>
                  <a:srgbClr val="ce1126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MNL model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: Relaxation of I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241200" y="1590840"/>
            <a:ext cx="8663040" cy="432432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rmAutofit/>
          </a:bodyPr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The math: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396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900" spc="-1" strike="noStrike">
                <a:solidFill>
                  <a:srgbClr val="000000"/>
                </a:solidFill>
                <a:latin typeface="Arial"/>
              </a:rPr>
              <a:t>For the moment, assume </a:t>
            </a:r>
            <a:r>
              <a:rPr b="0" lang="en-AU" sz="19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AU" sz="1900" spc="-1" strike="noStrike">
                <a:solidFill>
                  <a:srgbClr val="000000"/>
                </a:solidFill>
                <a:latin typeface="Arial"/>
              </a:rPr>
              <a:t> does not vary across choice situations and that the marginal utility of attribute k is the same in all alternatives. 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396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900" spc="-1" strike="noStrike">
                <a:solidFill>
                  <a:srgbClr val="000000"/>
                </a:solidFill>
                <a:latin typeface="Arial"/>
              </a:rPr>
              <a:t>The individual’s preference structure does not change during the experiment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Let utility be written as (nominally, in matrix notation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Then, expanding the term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Slide Number Placeholder 3"/>
          <p:cNvSpPr/>
          <p:nvPr/>
        </p:nvSpPr>
        <p:spPr>
          <a:xfrm>
            <a:off x="8664480" y="6586560"/>
            <a:ext cx="249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3C467-792A-4FE8-9D35-35DC298AD78C}" type="slidenum">
              <a:rPr b="0" lang="en-US" sz="900" spc="-1" strike="noStrike">
                <a:solidFill>
                  <a:srgbClr val="ce1126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2" name="Object 2"/>
          <p:cNvGraphicFramePr/>
          <p:nvPr/>
        </p:nvGraphicFramePr>
        <p:xfrm>
          <a:off x="1316160" y="3852720"/>
          <a:ext cx="36208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16160" y="3852720"/>
                    <a:ext cx="36208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4" name="Object 11"/>
          <p:cNvGraphicFramePr/>
          <p:nvPr/>
        </p:nvGraphicFramePr>
        <p:xfrm>
          <a:off x="1395360" y="5703840"/>
          <a:ext cx="3589560" cy="573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5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95360" y="5703840"/>
                    <a:ext cx="3589560" cy="57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6" name="Rounded Rectangle 11"/>
          <p:cNvSpPr/>
          <p:nvPr/>
        </p:nvSpPr>
        <p:spPr>
          <a:xfrm>
            <a:off x="3295800" y="5724360"/>
            <a:ext cx="1895400" cy="600120"/>
          </a:xfrm>
          <a:prstGeom prst="roundRect">
            <a:avLst>
              <a:gd name="adj" fmla="val 16667"/>
            </a:avLst>
          </a:prstGeom>
          <a:solidFill>
            <a:srgbClr val="ce1126">
              <a:alpha val="19000"/>
            </a:srgbClr>
          </a:solidFill>
          <a:ln w="25560">
            <a:solidFill>
              <a:srgbClr val="9709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Box 12"/>
          <p:cNvSpPr/>
          <p:nvPr/>
        </p:nvSpPr>
        <p:spPr>
          <a:xfrm>
            <a:off x="5591160" y="5838840"/>
            <a:ext cx="1619280" cy="368280"/>
          </a:xfrm>
          <a:prstGeom prst="rect">
            <a:avLst/>
          </a:prstGeom>
          <a:solidFill>
            <a:srgbClr val="fbcacf"/>
          </a:solidFill>
          <a:ln w="19080">
            <a:solidFill>
              <a:srgbClr val="da4d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observ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MNL model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: Relaxation of I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"/>
          <p:cNvSpPr txBox="1"/>
          <p:nvPr/>
        </p:nvSpPr>
        <p:spPr>
          <a:xfrm>
            <a:off x="250920" y="1773360"/>
            <a:ext cx="8663040" cy="468000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rmAutofit/>
          </a:bodyPr>
          <a:p>
            <a:pPr marL="174600" indent="-174600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Consider two alternatives, i and j, with a generic random coefficent, 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1250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1250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125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t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663040" cy="4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ts val="1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Slide Number Placeholder 3"/>
          <p:cNvSpPr/>
          <p:nvPr/>
        </p:nvSpPr>
        <p:spPr>
          <a:xfrm>
            <a:off x="8664480" y="6586560"/>
            <a:ext cx="249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71210-6DD4-4544-A2A0-1A9D30498799}" type="slidenum">
              <a:rPr b="0" lang="en-US" sz="900" spc="-1" strike="noStrike">
                <a:solidFill>
                  <a:srgbClr val="ce1126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2" name="Object 2"/>
          <p:cNvGraphicFramePr/>
          <p:nvPr/>
        </p:nvGraphicFramePr>
        <p:xfrm>
          <a:off x="1176480" y="2878200"/>
          <a:ext cx="3411360" cy="565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76480" y="2878200"/>
                    <a:ext cx="3411360" cy="56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4" name="Object 3"/>
          <p:cNvGraphicFramePr/>
          <p:nvPr/>
        </p:nvGraphicFramePr>
        <p:xfrm>
          <a:off x="1192320" y="2252520"/>
          <a:ext cx="3381120" cy="536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5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92320" y="2252520"/>
                    <a:ext cx="3381120" cy="53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6" name="Object 4"/>
          <p:cNvGraphicFramePr/>
          <p:nvPr/>
        </p:nvGraphicFramePr>
        <p:xfrm>
          <a:off x="958680" y="3908520"/>
          <a:ext cx="6674040" cy="1307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27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958680" y="3908520"/>
                    <a:ext cx="6674040" cy="13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8" name="Text Box 4"/>
          <p:cNvSpPr/>
          <p:nvPr/>
        </p:nvSpPr>
        <p:spPr>
          <a:xfrm>
            <a:off x="349200" y="5530680"/>
            <a:ext cx="8489880" cy="642600"/>
          </a:xfrm>
          <a:prstGeom prst="rect">
            <a:avLst/>
          </a:prstGeom>
          <a:solidFill>
            <a:srgbClr val="12416c"/>
          </a:solidFill>
          <a:ln w="9360">
            <a:solidFill>
              <a:srgbClr val="1241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Arial"/>
                <a:ea typeface="Arial"/>
              </a:rPr>
              <a:t>Hence random parameters can produce correlation over alternatives.  This relaxes the independence assumption (rather incidentally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285480" y="1777680"/>
            <a:ext cx="759924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MNL Model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: Estim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7892640" y="1777680"/>
            <a:ext cx="1143000" cy="1079640"/>
          </a:xfrm>
          <a:prstGeom prst="rect">
            <a:avLst/>
          </a:prstGeom>
          <a:noFill/>
          <a:ln w="0">
            <a:noFill/>
          </a:ln>
        </p:spPr>
        <p:txBody>
          <a:bodyPr lIns="0" anchor="ctr">
            <a:normAutofit/>
          </a:bodyPr>
          <a:p>
            <a:pPr marL="174600" indent="0" algn="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xed model estim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250920" y="1773360"/>
            <a:ext cx="8663040" cy="468000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rmAutofit/>
          </a:bodyPr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the (unmixed) logit model, we estimate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y maximiz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the mixed logit model, with random parameters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fore, we should maxim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663040" cy="4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ts val="1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stimation of the Mixed Logit Model Parame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4" name="Object 2"/>
          <p:cNvGraphicFramePr/>
          <p:nvPr/>
        </p:nvGraphicFramePr>
        <p:xfrm>
          <a:off x="1262160" y="2325600"/>
          <a:ext cx="5873760" cy="110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62160" y="2325600"/>
                    <a:ext cx="5873760" cy="110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6" name="Object 3"/>
          <p:cNvGraphicFramePr/>
          <p:nvPr/>
        </p:nvGraphicFramePr>
        <p:xfrm>
          <a:off x="6305400" y="3513240"/>
          <a:ext cx="1400400" cy="422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37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305400" y="3513240"/>
                    <a:ext cx="1400400" cy="42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8" name="Object 2"/>
          <p:cNvGraphicFramePr/>
          <p:nvPr/>
        </p:nvGraphicFramePr>
        <p:xfrm>
          <a:off x="863640" y="4327560"/>
          <a:ext cx="5918040" cy="1915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39" name="Object 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63640" y="4327560"/>
                    <a:ext cx="5918040" cy="191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xed model estim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"/>
          <p:cNvSpPr txBox="1"/>
          <p:nvPr/>
        </p:nvSpPr>
        <p:spPr>
          <a:xfrm>
            <a:off x="250920" y="1773360"/>
            <a:ext cx="8663040" cy="192240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rmAutofit/>
          </a:bodyPr>
          <a:p>
            <a:pPr marL="174600" indent="-174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is not possible to maximize LL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contains the unobserved z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so it cannot be computed for any observ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 will maximize a function that involves the expected values of the probab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663040" cy="4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ts val="1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asible Log Likeliho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3" name="Object 2"/>
          <p:cNvGraphicFramePr/>
          <p:nvPr/>
        </p:nvGraphicFramePr>
        <p:xfrm>
          <a:off x="698400" y="3708360"/>
          <a:ext cx="6477120" cy="1916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8400" y="3708360"/>
                    <a:ext cx="6477120" cy="191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xed model estim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663040" cy="4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ts val="1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w to compute the expected valu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7" name="Object 2"/>
          <p:cNvGraphicFramePr/>
          <p:nvPr/>
        </p:nvGraphicFramePr>
        <p:xfrm>
          <a:off x="749160" y="1943280"/>
          <a:ext cx="7191360" cy="4016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9160" y="1943280"/>
                    <a:ext cx="7191360" cy="40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85480" y="1777680"/>
            <a:ext cx="759924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rting Point: The MNL Mod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7892640" y="1777680"/>
            <a:ext cx="1143000" cy="1079640"/>
          </a:xfrm>
          <a:prstGeom prst="rect">
            <a:avLst/>
          </a:prstGeom>
          <a:noFill/>
          <a:ln w="0">
            <a:noFill/>
          </a:ln>
        </p:spPr>
        <p:txBody>
          <a:bodyPr lIns="0" anchor="ctr">
            <a:normAutofit/>
          </a:bodyPr>
          <a:p>
            <a:pPr marL="174600" indent="0" algn="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xed model estim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50" name="Object 2"/>
          <p:cNvGraphicFramePr/>
          <p:nvPr/>
        </p:nvGraphicFramePr>
        <p:xfrm>
          <a:off x="301680" y="1943280"/>
          <a:ext cx="8405640" cy="340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1680" y="1943280"/>
                    <a:ext cx="8405640" cy="340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2" name="Text Placeholder 6"/>
          <p:cNvSpPr/>
          <p:nvPr/>
        </p:nvSpPr>
        <p:spPr>
          <a:xfrm>
            <a:off x="250920" y="1268280"/>
            <a:ext cx="866304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  <a:ea typeface="Arial"/>
              </a:rPr>
              <a:t>Computing the expected val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xed model estim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663040" cy="4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ts val="1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uting the expected val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5" name="Object 2"/>
          <p:cNvGraphicFramePr/>
          <p:nvPr/>
        </p:nvGraphicFramePr>
        <p:xfrm>
          <a:off x="895320" y="1874880"/>
          <a:ext cx="6688080" cy="412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95320" y="1874880"/>
                    <a:ext cx="6688080" cy="412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xed model estim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"/>
          <p:cNvSpPr txBox="1"/>
          <p:nvPr/>
        </p:nvSpPr>
        <p:spPr>
          <a:xfrm>
            <a:off x="222120" y="2382840"/>
            <a:ext cx="8663040" cy="207504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rmAutofit/>
          </a:bodyPr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do we obtain the "random draws?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many draws, R, do we need to use to get a good approxim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 Placeholder 3"/>
          <p:cNvSpPr/>
          <p:nvPr/>
        </p:nvSpPr>
        <p:spPr>
          <a:xfrm>
            <a:off x="250920" y="1268280"/>
            <a:ext cx="866304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  <a:ea typeface="Arial"/>
              </a:rPr>
              <a:t>Computing the expected val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xed model estim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61" name="Object 2"/>
          <p:cNvGraphicFramePr/>
          <p:nvPr/>
        </p:nvGraphicFramePr>
        <p:xfrm>
          <a:off x="533520" y="2162160"/>
          <a:ext cx="7731000" cy="306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162160"/>
                    <a:ext cx="7731000" cy="306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3" name="Text Placeholder 3"/>
          <p:cNvSpPr/>
          <p:nvPr/>
        </p:nvSpPr>
        <p:spPr>
          <a:xfrm>
            <a:off x="250920" y="1268280"/>
            <a:ext cx="866304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  <a:ea typeface="Arial"/>
              </a:rPr>
              <a:t>Simulated log likeliho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MNL model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: Estim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"/>
          <p:cNvSpPr txBox="1"/>
          <p:nvPr/>
        </p:nvSpPr>
        <p:spPr>
          <a:xfrm>
            <a:off x="250920" y="1773360"/>
            <a:ext cx="8663040" cy="468000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rmAutofit/>
          </a:bodyPr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Consider the equation for a random parame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0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i="1" lang="en-AU" sz="20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i="1" lang="en-A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</a:rPr>
              <a:t>η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k are population level parameter estimat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AU" sz="20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i="1" lang="en-AU" sz="2000" spc="-1" strike="noStrike" baseline="-25000">
                <a:solidFill>
                  <a:srgbClr val="000000"/>
                </a:solidFill>
                <a:latin typeface="Arial"/>
              </a:rPr>
              <a:t>nk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is a random draw from some underlying (multivariate)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663040" cy="4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ts val="1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What do the parameters mea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Slide Number Placeholder 3"/>
          <p:cNvSpPr/>
          <p:nvPr/>
        </p:nvSpPr>
        <p:spPr>
          <a:xfrm>
            <a:off x="8664480" y="6586560"/>
            <a:ext cx="249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FB58D-E6D7-4222-A896-3DD8BEAE80B6}" type="slidenum">
              <a:rPr b="0" lang="en-US" sz="800" spc="-1" strike="noStrike">
                <a:solidFill>
                  <a:srgbClr val="ce1126"/>
                </a:solidFill>
                <a:latin typeface="Arial"/>
                <a:ea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8" name="Object 2"/>
          <p:cNvGraphicFramePr/>
          <p:nvPr/>
        </p:nvGraphicFramePr>
        <p:xfrm>
          <a:off x="1660680" y="2128680"/>
          <a:ext cx="2500200" cy="6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60680" y="2128680"/>
                    <a:ext cx="250020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70" name="Picture 2" descr=""/>
          <p:cNvPicPr/>
          <p:nvPr/>
        </p:nvPicPr>
        <p:blipFill>
          <a:blip r:embed="rId3"/>
          <a:stretch/>
        </p:blipFill>
        <p:spPr>
          <a:xfrm>
            <a:off x="2990880" y="3508200"/>
            <a:ext cx="4276800" cy="2697480"/>
          </a:xfrm>
          <a:prstGeom prst="rect">
            <a:avLst/>
          </a:prstGeom>
          <a:ln w="0">
            <a:noFill/>
          </a:ln>
        </p:spPr>
      </p:pic>
      <p:sp>
        <p:nvSpPr>
          <p:cNvPr id="571" name="TextBox 12"/>
          <p:cNvSpPr/>
          <p:nvPr/>
        </p:nvSpPr>
        <p:spPr>
          <a:xfrm>
            <a:off x="444600" y="4133880"/>
            <a:ext cx="8056440" cy="954360"/>
          </a:xfrm>
          <a:prstGeom prst="rect">
            <a:avLst/>
          </a:prstGeom>
          <a:solidFill>
            <a:srgbClr val="00206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Arial"/>
                <a:ea typeface="Arial"/>
              </a:rPr>
              <a:t>Notice that we do not know what </a:t>
            </a:r>
            <a:r>
              <a:rPr b="0" i="1" lang="el-GR" sz="1800" spc="-1" strike="noStrike">
                <a:solidFill>
                  <a:srgbClr val="ffffff"/>
                </a:solidFill>
                <a:latin typeface="Arial"/>
                <a:ea typeface="Arial"/>
              </a:rPr>
              <a:t>β</a:t>
            </a:r>
            <a:r>
              <a:rPr b="0" i="1" lang="en-AU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nk</a:t>
            </a:r>
            <a:r>
              <a:rPr b="0" lang="en-AU" sz="1800" spc="-1" strike="noStrike">
                <a:solidFill>
                  <a:srgbClr val="ffffff"/>
                </a:solidFill>
                <a:latin typeface="Arial"/>
                <a:ea typeface="Arial"/>
              </a:rPr>
              <a:t> is for any particular respondent </a:t>
            </a:r>
            <a:r>
              <a:rPr b="0" i="1" lang="en-AU" sz="1800" spc="-1" strike="noStrike">
                <a:solidFill>
                  <a:srgbClr val="ffffff"/>
                </a:solidFill>
                <a:latin typeface="Arial"/>
                <a:ea typeface="Arial"/>
              </a:rPr>
              <a:t>n</a:t>
            </a:r>
            <a:r>
              <a:rPr b="0" lang="en-AU" sz="1800" spc="-1" strike="noStrike">
                <a:solidFill>
                  <a:srgbClr val="ffffff"/>
                </a:solidFill>
                <a:latin typeface="Arial"/>
                <a:ea typeface="Arial"/>
              </a:rPr>
              <a:t>  as z</a:t>
            </a:r>
            <a:r>
              <a:rPr b="0" i="1" lang="en-AU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nsjk</a:t>
            </a:r>
            <a:r>
              <a:rPr b="0" lang="en-AU" sz="1800" spc="-1" strike="noStrike">
                <a:solidFill>
                  <a:srgbClr val="ffffff"/>
                </a:solidFill>
                <a:latin typeface="Arial"/>
                <a:ea typeface="Arial"/>
              </a:rPr>
              <a:t> is a random draw from some underlying distribution. As such, the (</a:t>
            </a:r>
            <a:r>
              <a:rPr b="0" i="1" lang="en-AU" sz="1800" spc="-1" strike="noStrike">
                <a:solidFill>
                  <a:srgbClr val="ffffff"/>
                </a:solidFill>
                <a:latin typeface="Arial"/>
                <a:ea typeface="Arial"/>
              </a:rPr>
              <a:t>conditional</a:t>
            </a:r>
            <a:r>
              <a:rPr b="0" lang="en-AU" sz="1800" spc="-1" strike="noStrike">
                <a:solidFill>
                  <a:srgbClr val="ffffff"/>
                </a:solidFill>
                <a:latin typeface="Arial"/>
                <a:ea typeface="Arial"/>
              </a:rPr>
              <a:t>) probabilities are a function of what draw is observe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285480" y="1777680"/>
            <a:ext cx="759924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MNL Model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: Simul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7892640" y="1777680"/>
            <a:ext cx="1143000" cy="1079640"/>
          </a:xfrm>
          <a:prstGeom prst="rect">
            <a:avLst/>
          </a:prstGeom>
          <a:noFill/>
          <a:ln w="0">
            <a:noFill/>
          </a:ln>
        </p:spPr>
        <p:txBody>
          <a:bodyPr lIns="0" anchor="ctr">
            <a:normAutofit/>
          </a:bodyPr>
          <a:p>
            <a:pPr marL="174600" indent="0" algn="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MNL model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: Simul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"/>
          <p:cNvSpPr txBox="1"/>
          <p:nvPr/>
        </p:nvSpPr>
        <p:spPr>
          <a:xfrm>
            <a:off x="250920" y="1773360"/>
            <a:ext cx="8663040" cy="468000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rmAutofit/>
          </a:bodyPr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To fi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396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396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Calibri"/>
              </a:rPr>
              <a:t>Take a draw from </a:t>
            </a:r>
            <a:r>
              <a:rPr b="0" i="1" lang="en-AU" sz="2200" spc="-1" strike="noStrike">
                <a:solidFill>
                  <a:srgbClr val="000000"/>
                </a:solidFill>
                <a:latin typeface="Calibri"/>
              </a:rPr>
              <a:t>f</a:t>
            </a:r>
            <a:r>
              <a:rPr b="0" lang="en-AU" sz="2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l-GR" sz="1800" spc="-1" strike="noStrike">
                <a:solidFill>
                  <a:srgbClr val="000000"/>
                </a:solidFill>
                <a:latin typeface="Tahoma"/>
                <a:ea typeface="Tahoma"/>
              </a:rPr>
              <a:t>β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n</a:t>
            </a:r>
            <a:r>
              <a:rPr b="0" lang="en-AU" sz="2200" spc="-1" strike="noStrike">
                <a:solidFill>
                  <a:srgbClr val="000000"/>
                </a:solidFill>
                <a:latin typeface="Calibri"/>
              </a:rPr>
              <a:t>|</a:t>
            </a:r>
            <a:r>
              <a:rPr b="0" lang="az-Cyrl-AZ" sz="2200" spc="-1" strike="noStrike">
                <a:solidFill>
                  <a:srgbClr val="000000"/>
                </a:solidFill>
                <a:latin typeface="Calibri"/>
              </a:rPr>
              <a:t>Ѳ</a:t>
            </a:r>
            <a:r>
              <a:rPr b="0" lang="en-AU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396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Calibri"/>
              </a:rPr>
              <a:t>Calculate the conditional (logit) probability for this draw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396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Calibri"/>
              </a:rPr>
              <a:t>Repeat many tim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396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200" spc="-1" strike="noStrike">
                <a:solidFill>
                  <a:srgbClr val="000000"/>
                </a:solidFill>
                <a:latin typeface="Calibri"/>
              </a:rPr>
              <a:t>Average the choice probabiliti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663040" cy="4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ts val="1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Simulation of choice probab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Slide Number Placeholder 3"/>
          <p:cNvSpPr/>
          <p:nvPr/>
        </p:nvSpPr>
        <p:spPr>
          <a:xfrm>
            <a:off x="8664480" y="6586560"/>
            <a:ext cx="249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DA21B-0284-4AC3-98D0-039D5A23DC50}" type="slidenum">
              <a:rPr b="0" lang="en-US" sz="900" spc="-1" strike="noStrike">
                <a:solidFill>
                  <a:srgbClr val="ce1126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8" name="Object 2"/>
          <p:cNvGraphicFramePr/>
          <p:nvPr/>
        </p:nvGraphicFramePr>
        <p:xfrm>
          <a:off x="665280" y="2052720"/>
          <a:ext cx="5521320" cy="1928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5280" y="2052720"/>
                    <a:ext cx="5521320" cy="192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0" name="Rectangle 10"/>
          <p:cNvSpPr/>
          <p:nvPr/>
        </p:nvSpPr>
        <p:spPr>
          <a:xfrm>
            <a:off x="4948560" y="2641680"/>
            <a:ext cx="3880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4" marL="1333440" indent="-342720"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  <a:ea typeface="Arial"/>
              </a:rPr>
              <a:t>we use sim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1" name="Object 9"/>
          <p:cNvGraphicFramePr/>
          <p:nvPr/>
        </p:nvGraphicFramePr>
        <p:xfrm>
          <a:off x="4813200" y="4970520"/>
          <a:ext cx="2268720" cy="1430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82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13200" y="4970520"/>
                    <a:ext cx="2268720" cy="143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MNL model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: Simul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"/>
          <p:cNvSpPr txBox="1"/>
          <p:nvPr/>
        </p:nvSpPr>
        <p:spPr>
          <a:xfrm>
            <a:off x="250920" y="1773360"/>
            <a:ext cx="8663040" cy="468000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rmAutofit/>
          </a:bodyPr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Consider the fact that </a:t>
            </a:r>
            <a:r>
              <a:rPr b="0" i="1" lang="en-AU" sz="20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i="1" lang="en-AU" sz="2000" spc="-1" strike="noStrike" baseline="-25000">
                <a:solidFill>
                  <a:srgbClr val="000000"/>
                </a:solidFill>
                <a:latin typeface="Arial"/>
              </a:rPr>
              <a:t>njk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are random draws from some underlying (multivariate) distribu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If we estimate the same model twice, unless we control this explicitly, different </a:t>
            </a:r>
            <a:r>
              <a:rPr b="0" i="1" lang="en-AU" sz="20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i="1" lang="en-AU" sz="2000" spc="-1" strike="noStrike" baseline="-25000">
                <a:solidFill>
                  <a:srgbClr val="000000"/>
                </a:solidFill>
                <a:latin typeface="Arial"/>
              </a:rPr>
              <a:t>njk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are likely to be observ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663040" cy="4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ts val="1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Consider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Slide Number Placeholder 3"/>
          <p:cNvSpPr/>
          <p:nvPr/>
        </p:nvSpPr>
        <p:spPr>
          <a:xfrm>
            <a:off x="8664480" y="6586560"/>
            <a:ext cx="249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707A8-18C6-42AC-B45D-0AEA2654BF0F}" type="slidenum">
              <a:rPr b="0" lang="en-US" sz="900" spc="-1" strike="noStrike">
                <a:solidFill>
                  <a:srgbClr val="ce1126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7" name="Picture 8" descr=""/>
          <p:cNvPicPr/>
          <p:nvPr/>
        </p:nvPicPr>
        <p:blipFill>
          <a:blip r:embed="rId1"/>
          <a:stretch/>
        </p:blipFill>
        <p:spPr>
          <a:xfrm>
            <a:off x="1023840" y="3267000"/>
            <a:ext cx="6753240" cy="31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MNL model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: Simul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/>
          <p:cNvSpPr txBox="1"/>
          <p:nvPr/>
        </p:nvSpPr>
        <p:spPr>
          <a:xfrm>
            <a:off x="250920" y="1773360"/>
            <a:ext cx="8663040" cy="468000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rmAutofit/>
          </a:bodyPr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This will lead to differ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1250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1250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125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and hence differ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125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125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and hence different estimates of </a:t>
            </a:r>
            <a:r>
              <a:rPr b="0" i="1" lang="el-GR" sz="20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i="1" lang="en-AU" sz="20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l-GR" sz="2000" spc="-1" strike="noStrike">
                <a:solidFill>
                  <a:srgbClr val="000000"/>
                </a:solidFill>
                <a:latin typeface="Arial"/>
              </a:rPr>
              <a:t>η</a:t>
            </a:r>
            <a:r>
              <a:rPr b="0" i="1" lang="en-AU" sz="20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Setting the ‘seed’ of the random number generator will solve the problem of different strings of pseudo-random draw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663040" cy="4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ts val="1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Which is not go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Slide Number Placeholder 3"/>
          <p:cNvSpPr/>
          <p:nvPr/>
        </p:nvSpPr>
        <p:spPr>
          <a:xfrm>
            <a:off x="8664480" y="6586560"/>
            <a:ext cx="249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B6FCA-6247-4888-BFB3-D1735F20BA7D}" type="slidenum">
              <a:rPr b="0" lang="en-US" sz="900" spc="-1" strike="noStrike">
                <a:solidFill>
                  <a:srgbClr val="ce1126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2" name="Object 2"/>
          <p:cNvGraphicFramePr/>
          <p:nvPr/>
        </p:nvGraphicFramePr>
        <p:xfrm>
          <a:off x="3076560" y="3135240"/>
          <a:ext cx="2981520" cy="93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76560" y="3135240"/>
                    <a:ext cx="2981520" cy="93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4" name="Object 3"/>
          <p:cNvGraphicFramePr/>
          <p:nvPr/>
        </p:nvGraphicFramePr>
        <p:xfrm>
          <a:off x="3573360" y="1346040"/>
          <a:ext cx="2492640" cy="1629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95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73360" y="1346040"/>
                    <a:ext cx="2492640" cy="162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MNL model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: Simul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 txBox="1"/>
          <p:nvPr/>
        </p:nvSpPr>
        <p:spPr>
          <a:xfrm>
            <a:off x="250920" y="1773360"/>
            <a:ext cx="8663040" cy="468000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rmAutofit/>
          </a:bodyPr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But, if not enough draws, </a:t>
            </a:r>
            <a:r>
              <a:rPr b="0" i="1" lang="en-AU" sz="20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, are taken, then the coverage of </a:t>
            </a:r>
            <a:r>
              <a:rPr b="0" i="1" lang="en-AU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l-GR" sz="2000" spc="-1" strike="noStrike">
                <a:solidFill>
                  <a:srgbClr val="000000"/>
                </a:solidFill>
                <a:latin typeface="Tahoma"/>
                <a:ea typeface="Tahoma"/>
              </a:rPr>
              <a:t>β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| </a:t>
            </a:r>
            <a:r>
              <a:rPr b="0" lang="az-Cyrl-AZ" sz="2000" spc="-1" strike="noStrike">
                <a:solidFill>
                  <a:srgbClr val="000000"/>
                </a:solidFill>
                <a:latin typeface="Arial"/>
              </a:rPr>
              <a:t>Ѳ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) may be sparse and insufficient to give a good approxim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Slide Number Placeholder 3"/>
          <p:cNvSpPr/>
          <p:nvPr/>
        </p:nvSpPr>
        <p:spPr>
          <a:xfrm>
            <a:off x="8664480" y="6586560"/>
            <a:ext cx="249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B29B3-B267-4976-B795-138589E56EA0}" type="slidenum">
              <a:rPr b="0" lang="en-US" sz="900" spc="-1" strike="noStrike">
                <a:solidFill>
                  <a:srgbClr val="ce1126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9" name="Picture 15" descr=""/>
          <p:cNvPicPr/>
          <p:nvPr/>
        </p:nvPicPr>
        <p:blipFill>
          <a:blip r:embed="rId1"/>
          <a:stretch/>
        </p:blipFill>
        <p:spPr>
          <a:xfrm>
            <a:off x="157320" y="2938320"/>
            <a:ext cx="8772480" cy="28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Introduction: The MNL mod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3152880" y="2163240"/>
            <a:ext cx="5703840" cy="341820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rmAutofit/>
          </a:bodyPr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The MNL model represents the mostly widely used choice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396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owever the model is based on very strict assump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539640" indent="-17784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IID random components of R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39640" indent="-17784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Independence of observed cho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39640" indent="-17784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0000"/>
                </a:solidFill>
                <a:latin typeface="Arial"/>
              </a:rPr>
              <a:t>Homogeneity of preferences – the same preference weights, </a:t>
            </a:r>
            <a:r>
              <a:rPr b="1" lang="en-AU" sz="2000" spc="-1" strike="noStrike">
                <a:solidFill>
                  <a:srgbClr val="ff0000"/>
                </a:solidFill>
                <a:latin typeface="Symbol"/>
                <a:ea typeface="Symbol"/>
              </a:rPr>
              <a:t></a:t>
            </a:r>
            <a:r>
              <a:rPr b="1" lang="en-AU" sz="2000" spc="-1" strike="noStrike">
                <a:solidFill>
                  <a:srgbClr val="ff0000"/>
                </a:solidFill>
                <a:latin typeface="Arial"/>
              </a:rPr>
              <a:t>, apply to all individua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663040" cy="4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ts val="1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The MNL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Slide Number Placeholder 3"/>
          <p:cNvSpPr/>
          <p:nvPr/>
        </p:nvSpPr>
        <p:spPr>
          <a:xfrm>
            <a:off x="8664480" y="6586560"/>
            <a:ext cx="249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131D5-D16C-410A-839D-209B63472AD4}" type="slidenum">
              <a:rPr b="0" lang="en-US" sz="900" spc="-1" strike="noStrike">
                <a:solidFill>
                  <a:srgbClr val="ce1126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4" name=""/>
          <p:cNvGraphicFramePr/>
          <p:nvPr/>
        </p:nvGraphicFramePr>
        <p:xfrm>
          <a:off x="611280" y="2060640"/>
          <a:ext cx="2406600" cy="3657600"/>
        </p:xfrm>
        <a:graphic>
          <a:graphicData uri="http://schemas.openxmlformats.org/drawingml/2006/table">
            <a:tbl>
              <a:tblPr/>
              <a:tblGrid>
                <a:gridCol w="1096920"/>
                <a:gridCol w="541440"/>
                <a:gridCol w="768240"/>
              </a:tblGrid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ttribu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ar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(</a:t>
                      </a:r>
                      <a:r>
                        <a:rPr b="0" i="1" lang="en-US" sz="1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</a:t>
                      </a: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ratio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Air N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8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27.64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Qant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8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27.71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Virgi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56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26.96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Fa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5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-28.98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Flight Ti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-11.68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Departure 6a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36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-4.03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Departure 10a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4.64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Departure 2p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0.72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Variabilit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77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0.70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6240"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del Fi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f7f7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L(ASC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7bb5e9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565.2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bdda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L(</a:t>
                      </a: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β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bb5e9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837.4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da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l-G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ρ</a:t>
                      </a:r>
                      <a:r>
                        <a:rPr b="1" lang="el-GR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bb5e9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da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j. </a:t>
                      </a: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ρ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bb5e9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a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MNL model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: Simul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"/>
          <p:cNvSpPr txBox="1"/>
          <p:nvPr/>
        </p:nvSpPr>
        <p:spPr>
          <a:xfrm>
            <a:off x="250920" y="1773360"/>
            <a:ext cx="8663040" cy="468000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rmAutofit/>
          </a:bodyPr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Thus, if pseudo random draws are taken from </a:t>
            </a:r>
            <a:r>
              <a:rPr b="0" i="1" lang="en-AU" sz="20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i="1" lang="en-AU" sz="2000" spc="-1" strike="noStrike" baseline="-25000">
                <a:solidFill>
                  <a:srgbClr val="000000"/>
                </a:solidFill>
                <a:latin typeface="Arial"/>
              </a:rPr>
              <a:t>njk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, then it is necessary to fix the seed for the draws during estimation, otherwise different parameter estimates will resu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It is also necessary to take a large number of draws to ensure coverage of </a:t>
            </a:r>
            <a:r>
              <a:rPr b="0" i="1" lang="en-AU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l-GR" sz="2000" spc="-1" strike="noStrike">
                <a:solidFill>
                  <a:srgbClr val="000000"/>
                </a:solidFill>
                <a:latin typeface="Arial"/>
                <a:ea typeface="Tahoma"/>
              </a:rPr>
              <a:t>β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az-Cyrl-AZ" sz="2000" spc="-1" strike="noStrike">
                <a:solidFill>
                  <a:srgbClr val="000000"/>
                </a:solidFill>
                <a:latin typeface="Arial"/>
              </a:rPr>
              <a:t>Ѳ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663040" cy="4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ts val="1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How many is enough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Slide Number Placeholder 3"/>
          <p:cNvSpPr/>
          <p:nvPr/>
        </p:nvSpPr>
        <p:spPr>
          <a:xfrm>
            <a:off x="8664480" y="6586560"/>
            <a:ext cx="249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604A0-0BAC-4EE4-8E68-FB16816E40B9}" type="slidenum">
              <a:rPr b="0" lang="en-US" sz="900" spc="-1" strike="noStrike">
                <a:solidFill>
                  <a:srgbClr val="ce1126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Text Box 4"/>
          <p:cNvSpPr/>
          <p:nvPr/>
        </p:nvSpPr>
        <p:spPr>
          <a:xfrm>
            <a:off x="406440" y="3759120"/>
            <a:ext cx="8318520" cy="642600"/>
          </a:xfrm>
          <a:prstGeom prst="rect">
            <a:avLst/>
          </a:prstGeom>
          <a:solidFill>
            <a:srgbClr val="12416c"/>
          </a:solidFill>
          <a:ln w="9360">
            <a:solidFill>
              <a:srgbClr val="1241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Arial"/>
                <a:ea typeface="Arial"/>
              </a:rPr>
              <a:t>How many draws represents a large number of draws remains an open debate. Up to 1,000 random draws are often used. Sometimes mo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Text Box 4"/>
          <p:cNvSpPr/>
          <p:nvPr/>
        </p:nvSpPr>
        <p:spPr>
          <a:xfrm>
            <a:off x="406440" y="4530600"/>
            <a:ext cx="8318520" cy="916920"/>
          </a:xfrm>
          <a:prstGeom prst="rect">
            <a:avLst/>
          </a:prstGeom>
          <a:solidFill>
            <a:srgbClr val="12416c"/>
          </a:solidFill>
          <a:ln w="9360">
            <a:solidFill>
              <a:srgbClr val="12416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Arial"/>
                <a:ea typeface="Arial"/>
              </a:rPr>
              <a:t>Analysts often use small numbers of draws (50-100) for testing and exploratory analysis, then use a large number of draws (1,000+) once the final model form is decided up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MNL model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: Simul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"/>
          <p:cNvSpPr txBox="1"/>
          <p:nvPr/>
        </p:nvSpPr>
        <p:spPr>
          <a:xfrm>
            <a:off x="250920" y="1773360"/>
            <a:ext cx="8663040" cy="468000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rmAutofit/>
          </a:bodyPr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Rather than use pseudo random draws, a number of researchers advise using quasi random (or intelligent) dra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396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quasi-random draws (Halton draws, Sobol draws, …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396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odified latin hypercube (MLHS) draw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Intelligent draws select are not (pseudo-) random.  They are computed deterministically in such a way that they cover the </a:t>
            </a:r>
            <a:r>
              <a:rPr b="0" i="1" lang="en-AU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l-GR" sz="2000" spc="-1" strike="noStrike">
                <a:solidFill>
                  <a:srgbClr val="000000"/>
                </a:solidFill>
                <a:latin typeface="Arial"/>
                <a:ea typeface="Tahoma"/>
              </a:rPr>
              <a:t>β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az-Cyrl-AZ" sz="2000" spc="-1" strike="noStrike">
                <a:solidFill>
                  <a:srgbClr val="000000"/>
                </a:solidFill>
                <a:latin typeface="Arial"/>
              </a:rPr>
              <a:t>Ѳ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) space with as few draws as is possible. There is no problem of simulation ‘noise’ or simulation varian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Intelligent draws are always the sa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663040" cy="4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ts val="1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Another approa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Slide Number Placeholder 3"/>
          <p:cNvSpPr/>
          <p:nvPr/>
        </p:nvSpPr>
        <p:spPr>
          <a:xfrm>
            <a:off x="8664480" y="6586560"/>
            <a:ext cx="249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FE567-BE17-44EF-9249-67ABCA27433F}" type="slidenum">
              <a:rPr b="0" lang="en-US" sz="900" spc="-1" strike="noStrike">
                <a:solidFill>
                  <a:srgbClr val="ce1126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MNL model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: Simul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250920" y="1773360"/>
            <a:ext cx="8663040" cy="468000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rmAutofit/>
          </a:bodyPr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Halton draws are sequences of values that are specific functions of a prime number and the sequence of integers:  H</a:t>
            </a:r>
            <a:r>
              <a:rPr b="0" lang="en-AU" sz="2000" spc="-1" strike="noStrike" baseline="-25000">
                <a:solidFill>
                  <a:srgbClr val="000000"/>
                </a:solidFill>
                <a:latin typeface="Arial"/>
              </a:rPr>
              <a:t>pi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 =  Halton(p,i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lton sequences are therefore just tables of values with a range between 0 and 1, as below, of what can be thought of as probabilit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random parameter is assigned a different column from the 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Slide Number Placeholder 3"/>
          <p:cNvSpPr/>
          <p:nvPr/>
        </p:nvSpPr>
        <p:spPr>
          <a:xfrm>
            <a:off x="8664480" y="6586560"/>
            <a:ext cx="249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30135-98F2-4CF7-BCE9-F9BAE0289BF3}" type="slidenum">
              <a:rPr b="0" lang="en-US" sz="900" spc="-1" strike="noStrike">
                <a:solidFill>
                  <a:srgbClr val="ce1126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3" name="Picture 138" descr=""/>
          <p:cNvPicPr/>
          <p:nvPr/>
        </p:nvPicPr>
        <p:blipFill>
          <a:blip r:embed="rId1"/>
          <a:stretch/>
        </p:blipFill>
        <p:spPr>
          <a:xfrm>
            <a:off x="295200" y="3790800"/>
            <a:ext cx="8286840" cy="1962360"/>
          </a:xfrm>
          <a:prstGeom prst="rect">
            <a:avLst/>
          </a:prstGeom>
          <a:ln w="0">
            <a:noFill/>
          </a:ln>
        </p:spPr>
      </p:pic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663040" cy="4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ts val="1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Halton dra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MNL model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: Simul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"/>
          <p:cNvSpPr txBox="1"/>
          <p:nvPr/>
        </p:nvSpPr>
        <p:spPr>
          <a:xfrm>
            <a:off x="250920" y="1773360"/>
            <a:ext cx="8663040" cy="468000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rmAutofit/>
          </a:bodyPr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means that the random parameter draws, </a:t>
            </a:r>
            <a:r>
              <a:rPr b="0" i="1" lang="en-AU" sz="20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i="1" lang="en-AU" sz="2000" spc="-1" strike="noStrike" baseline="-25000">
                <a:solidFill>
                  <a:srgbClr val="000000"/>
                </a:solidFill>
                <a:latin typeface="Arial"/>
              </a:rPr>
              <a:t>njk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are no longer stochastic, and hence you will obtain the same model every ti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Also, the probabilities are chosen specifically to cover the </a:t>
            </a:r>
            <a:r>
              <a:rPr b="0" i="1" lang="en-AU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l-GR" sz="2000" spc="-1" strike="noStrike">
                <a:solidFill>
                  <a:srgbClr val="000000"/>
                </a:solidFill>
                <a:latin typeface="Tahoma"/>
                <a:ea typeface="Tahoma"/>
              </a:rPr>
              <a:t>β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az-Cyrl-AZ" sz="2000" spc="-1" strike="noStrike">
                <a:solidFill>
                  <a:srgbClr val="000000"/>
                </a:solidFill>
                <a:latin typeface="Arial"/>
              </a:rPr>
              <a:t>Ѳ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) space with as few draws as is possibl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663040" cy="4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ts val="1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Intelligent dra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Slide Number Placeholder 3"/>
          <p:cNvSpPr/>
          <p:nvPr/>
        </p:nvSpPr>
        <p:spPr>
          <a:xfrm>
            <a:off x="8664480" y="6586560"/>
            <a:ext cx="249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59BFC-F87A-4EA6-91A1-A4021BC4DD5D}" type="slidenum">
              <a:rPr b="0" lang="en-US" sz="900" spc="-1" strike="noStrike">
                <a:solidFill>
                  <a:srgbClr val="ce1126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9" name="Picture 16" descr=""/>
          <p:cNvPicPr/>
          <p:nvPr/>
        </p:nvPicPr>
        <p:blipFill>
          <a:blip r:embed="rId1"/>
          <a:stretch/>
        </p:blipFill>
        <p:spPr>
          <a:xfrm>
            <a:off x="142920" y="3181320"/>
            <a:ext cx="8763120" cy="2571840"/>
          </a:xfrm>
          <a:prstGeom prst="rect">
            <a:avLst/>
          </a:prstGeom>
          <a:ln w="0">
            <a:noFill/>
          </a:ln>
        </p:spPr>
      </p:pic>
      <p:pic>
        <p:nvPicPr>
          <p:cNvPr id="620" name="Picture 17" descr=""/>
          <p:cNvPicPr/>
          <p:nvPr/>
        </p:nvPicPr>
        <p:blipFill>
          <a:blip r:embed="rId2"/>
          <a:stretch/>
        </p:blipFill>
        <p:spPr>
          <a:xfrm>
            <a:off x="876240" y="5724360"/>
            <a:ext cx="7581960" cy="10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MNL model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: Simul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"/>
          <p:cNvSpPr txBox="1"/>
          <p:nvPr/>
        </p:nvSpPr>
        <p:spPr>
          <a:xfrm>
            <a:off x="241200" y="1763280"/>
            <a:ext cx="8663040" cy="138924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rmAutofit/>
          </a:bodyPr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possible shortcoming of  Halton sequences is the fact that the individual sequences are correlated with each other, leading to problems with poor multi-dimensional coverage in models with many random parameters.   ('Many' is more than 2 or 3 or 4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Slide Number Placeholder 3"/>
          <p:cNvSpPr/>
          <p:nvPr/>
        </p:nvSpPr>
        <p:spPr>
          <a:xfrm>
            <a:off x="8664480" y="6586560"/>
            <a:ext cx="249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B6596-933B-4474-A49D-15E137732897}" type="slidenum">
              <a:rPr b="0" lang="en-US" sz="900" spc="-1" strike="noStrike">
                <a:solidFill>
                  <a:srgbClr val="ce1126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MNL model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: Simul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"/>
          <p:cNvSpPr txBox="1"/>
          <p:nvPr/>
        </p:nvSpPr>
        <p:spPr>
          <a:xfrm>
            <a:off x="231840" y="1763640"/>
            <a:ext cx="8663040" cy="286560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rmAutofit/>
          </a:bodyPr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other draw type are Modified Latin Hypercube Sampling (MLH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each random parameter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396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vide the 0-1 space into R evenly spaced points (e.g., {0,0.1,0.2,…,0.9}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396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 random number between 0 and 1/R to each point (e.g., 0.03; {0,0.1,0.2,…,0.9} →{0.03,0.13,0.23,…,0.93}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396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ndomly shuffle the order (e.g., 0.53,0.33,0.93,…,0.73}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Slide Number Placeholder 3"/>
          <p:cNvSpPr/>
          <p:nvPr/>
        </p:nvSpPr>
        <p:spPr>
          <a:xfrm>
            <a:off x="8664480" y="6586560"/>
            <a:ext cx="249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2270B-C790-4B7D-95A8-29DFA8EE59FB}" type="slidenum">
              <a:rPr b="0" lang="en-US" sz="900" spc="-1" strike="noStrike">
                <a:solidFill>
                  <a:srgbClr val="ce1126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Text Placeholder 1"/>
          <p:cNvSpPr/>
          <p:nvPr/>
        </p:nvSpPr>
        <p:spPr>
          <a:xfrm>
            <a:off x="250920" y="1268280"/>
            <a:ext cx="866304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  <a:ea typeface="Arial"/>
              </a:rPr>
              <a:t>ML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MNL model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: Simul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"/>
          <p:cNvSpPr txBox="1"/>
          <p:nvPr/>
        </p:nvSpPr>
        <p:spPr>
          <a:xfrm>
            <a:off x="250920" y="1773360"/>
            <a:ext cx="8663040" cy="468000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rmAutofit/>
          </a:bodyPr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This far, we have assumed that </a:t>
            </a:r>
            <a:r>
              <a:rPr b="0" i="1" lang="en-AU" sz="20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i="1" lang="en-AU" sz="2000" spc="-1" strike="noStrike" baseline="-25000">
                <a:solidFill>
                  <a:srgbClr val="000000"/>
                </a:solidFill>
                <a:latin typeface="Arial"/>
              </a:rPr>
              <a:t>njk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are drawn from (multivariate) normal distribu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Other distributions can be assumed however. Consi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The distribution from which </a:t>
            </a:r>
            <a:r>
              <a:rPr b="0" i="1" lang="en-AU" sz="20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i="1" lang="en-AU" sz="2000" spc="-1" strike="noStrike" baseline="-25000">
                <a:solidFill>
                  <a:srgbClr val="000000"/>
                </a:solidFill>
                <a:latin typeface="Arial"/>
              </a:rPr>
              <a:t>nk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are drawn will dictate the shape of the population distributions, </a:t>
            </a:r>
            <a:r>
              <a:rPr b="0" i="1" lang="en-AU" sz="20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l-GR" sz="2000" spc="-1" strike="noStrike">
                <a:solidFill>
                  <a:srgbClr val="000000"/>
                </a:solidFill>
                <a:latin typeface="Arial"/>
                <a:ea typeface="Tahoma"/>
              </a:rPr>
              <a:t>β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az-Cyrl-AZ" sz="2000" spc="-1" strike="noStrike">
                <a:solidFill>
                  <a:srgbClr val="000000"/>
                </a:solidFill>
                <a:latin typeface="Arial"/>
              </a:rPr>
              <a:t>Ѳ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).  For example, the set supported in NLOGIT includes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663040" cy="4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ts val="1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Distributions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Slide Number Placeholder 3"/>
          <p:cNvSpPr/>
          <p:nvPr/>
        </p:nvSpPr>
        <p:spPr>
          <a:xfrm>
            <a:off x="8664480" y="6586560"/>
            <a:ext cx="249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070B6-F212-4AEA-85DB-F6A05855473A}" type="slidenum">
              <a:rPr b="0" lang="en-US" sz="900" spc="-1" strike="noStrike">
                <a:solidFill>
                  <a:srgbClr val="ce1126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2" name="Object 2"/>
          <p:cNvGraphicFramePr/>
          <p:nvPr/>
        </p:nvGraphicFramePr>
        <p:xfrm>
          <a:off x="2222640" y="3038400"/>
          <a:ext cx="2498760" cy="6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22640" y="3038400"/>
                    <a:ext cx="249876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4" name="TextBox 8"/>
          <p:cNvSpPr/>
          <p:nvPr/>
        </p:nvSpPr>
        <p:spPr>
          <a:xfrm>
            <a:off x="1447920" y="4626000"/>
            <a:ext cx="2019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rm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ni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ognorm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iangul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TextBox 10"/>
          <p:cNvSpPr/>
          <p:nvPr/>
        </p:nvSpPr>
        <p:spPr>
          <a:xfrm>
            <a:off x="3219480" y="4626000"/>
            <a:ext cx="2566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rla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iebu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Exponent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TextBox 11"/>
          <p:cNvSpPr/>
          <p:nvPr/>
        </p:nvSpPr>
        <p:spPr>
          <a:xfrm>
            <a:off x="5505480" y="4645080"/>
            <a:ext cx="3500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ayleig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kew norm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uncated Norm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amma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285480" y="1777680"/>
            <a:ext cx="759924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MNL Model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: Practical consider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7892640" y="1777680"/>
            <a:ext cx="1143000" cy="1079640"/>
          </a:xfrm>
          <a:prstGeom prst="rect">
            <a:avLst/>
          </a:prstGeom>
          <a:noFill/>
          <a:ln w="0">
            <a:noFill/>
          </a:ln>
        </p:spPr>
        <p:txBody>
          <a:bodyPr lIns="0" anchor="ctr">
            <a:normAutofit/>
          </a:bodyPr>
          <a:p>
            <a:pPr marL="174600" indent="0" algn="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MNL model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: Practical consider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"/>
          <p:cNvSpPr txBox="1"/>
          <p:nvPr/>
        </p:nvSpPr>
        <p:spPr>
          <a:xfrm>
            <a:off x="250920" y="1773360"/>
            <a:ext cx="8663040" cy="468000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rmAutofit/>
          </a:bodyPr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The estimation of the MMNL requires that the analyst make a number of estimation related decis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396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What parameters to include in the model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396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What parameters to treat as random parameter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396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What distributional form should the parameters tak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396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What type of </a:t>
            </a:r>
            <a:r>
              <a:rPr b="0" i="1" lang="en-AU" sz="1800" spc="-1" strike="noStrike">
                <a:solidFill>
                  <a:srgbClr val="000000"/>
                </a:solidFill>
                <a:latin typeface="Arial"/>
              </a:rPr>
              <a:t>draws 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to use in estimation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396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ow many </a:t>
            </a:r>
            <a:r>
              <a:rPr b="0" i="1" lang="en-AU" sz="1800" spc="-1" strike="noStrike">
                <a:solidFill>
                  <a:srgbClr val="000000"/>
                </a:solidFill>
                <a:latin typeface="Arial"/>
              </a:rPr>
              <a:t>draws 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to use in esti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663040" cy="4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ts val="1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Decisions, decisions, decision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Slide Number Placeholder 3"/>
          <p:cNvSpPr/>
          <p:nvPr/>
        </p:nvSpPr>
        <p:spPr>
          <a:xfrm>
            <a:off x="8664480" y="6586560"/>
            <a:ext cx="249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B71B1-2FF3-4F9B-8042-C709CA6E7186}" type="slidenum">
              <a:rPr b="0" lang="en-US" sz="900" spc="-1" strike="noStrike">
                <a:solidFill>
                  <a:srgbClr val="ce1126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MNL model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: Practical consider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"/>
          <p:cNvSpPr txBox="1"/>
          <p:nvPr/>
        </p:nvSpPr>
        <p:spPr>
          <a:xfrm>
            <a:off x="250920" y="1773360"/>
            <a:ext cx="8663040" cy="468000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rmAutofit/>
          </a:bodyPr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The estimation of the MMNL requires that the analyst make a number of estimation related decis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396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What parameters to include in the model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396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88a0b5"/>
                </a:solidFill>
                <a:latin typeface="Arial"/>
              </a:rPr>
              <a:t>What parameters to treat as random parameter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396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What distributional form should the parameters tak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396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What type of draws to use in estimation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396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ow many </a:t>
            </a:r>
            <a:r>
              <a:rPr b="0" i="1" lang="en-AU" sz="1800" spc="-1" strike="noStrike">
                <a:solidFill>
                  <a:srgbClr val="000000"/>
                </a:solidFill>
                <a:latin typeface="Arial"/>
              </a:rPr>
              <a:t>draws 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to use in esti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663040" cy="4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ts val="1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Decisions, decisions, decision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Slide Number Placeholder 3"/>
          <p:cNvSpPr/>
          <p:nvPr/>
        </p:nvSpPr>
        <p:spPr>
          <a:xfrm>
            <a:off x="8664480" y="6586560"/>
            <a:ext cx="249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6D285-D73F-46D9-83AC-7101AEC8B19A}" type="slidenum">
              <a:rPr b="0" lang="en-US" sz="900" spc="-1" strike="noStrike">
                <a:solidFill>
                  <a:srgbClr val="ce1126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Introduction: The MNL mod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663040" cy="4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ts val="1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The MNL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Slide Number Placeholder 3"/>
          <p:cNvSpPr/>
          <p:nvPr/>
        </p:nvSpPr>
        <p:spPr>
          <a:xfrm>
            <a:off x="8664480" y="6586560"/>
            <a:ext cx="249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8DB90-A10C-4758-86EB-96AA898BDA33}" type="slidenum">
              <a:rPr b="0" lang="en-US" sz="900" spc="-1" strike="noStrike">
                <a:solidFill>
                  <a:srgbClr val="ce1126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Slide Number Placeholder 4"/>
          <p:cNvSpPr/>
          <p:nvPr/>
        </p:nvSpPr>
        <p:spPr>
          <a:xfrm>
            <a:off x="5219640" y="6553080"/>
            <a:ext cx="34671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F6843-2BBA-4A89-8896-5641522CA393}" type="slidenum"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250920" y="1773360"/>
            <a:ext cx="8663040" cy="468000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rmAutofit/>
          </a:bodyPr>
          <a:p>
            <a:pPr marL="174600" indent="-174600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The utility functions of the MNL model may be written 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1500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AU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= respondent, </a:t>
            </a:r>
            <a:br>
              <a:rPr sz="2000"/>
            </a:b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i="1" lang="en-AU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= choice task, </a:t>
            </a:r>
            <a:br>
              <a:rPr sz="2000"/>
            </a:b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i="1" lang="en-AU" sz="20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 = alternative, </a:t>
            </a:r>
            <a:br>
              <a:rPr sz="2000"/>
            </a:b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i="1" lang="en-AU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= attribu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125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Resulting in choice probab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0" name="Object 2"/>
          <p:cNvGraphicFramePr/>
          <p:nvPr/>
        </p:nvGraphicFramePr>
        <p:xfrm>
          <a:off x="639720" y="2265480"/>
          <a:ext cx="6120000" cy="108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9720" y="2265480"/>
                    <a:ext cx="6120000" cy="108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2" name="Object 3"/>
          <p:cNvGraphicFramePr/>
          <p:nvPr/>
        </p:nvGraphicFramePr>
        <p:xfrm>
          <a:off x="4260960" y="4255920"/>
          <a:ext cx="2319120" cy="1928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63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60960" y="4255920"/>
                    <a:ext cx="2319120" cy="192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MNL model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: Practical consider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663040" cy="4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ts val="1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Choice of random parameters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Slide Number Placeholder 3"/>
          <p:cNvSpPr/>
          <p:nvPr/>
        </p:nvSpPr>
        <p:spPr>
          <a:xfrm>
            <a:off x="8664480" y="6586560"/>
            <a:ext cx="249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A239E-3706-4B0C-B9DB-CC15174E359B}" type="slidenum">
              <a:rPr b="0" lang="en-US" sz="900" spc="-1" strike="noStrike">
                <a:solidFill>
                  <a:srgbClr val="ce1126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0" name=""/>
          <p:cNvGraphicFramePr/>
          <p:nvPr/>
        </p:nvGraphicFramePr>
        <p:xfrm>
          <a:off x="2664000" y="1770120"/>
          <a:ext cx="3876480" cy="4735440"/>
        </p:xfrm>
        <a:graphic>
          <a:graphicData uri="http://schemas.openxmlformats.org/drawingml/2006/table">
            <a:tbl>
              <a:tblPr/>
              <a:tblGrid>
                <a:gridCol w="1168200"/>
                <a:gridCol w="662040"/>
                <a:gridCol w="692280"/>
                <a:gridCol w="663480"/>
                <a:gridCol w="690480"/>
              </a:tblGrid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Model 1 (</a:t>
                      </a:r>
                      <a:r>
                        <a:rPr b="0" i="1" lang="en-US" sz="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Halton</a:t>
                      </a:r>
                      <a:r>
                        <a:rPr b="0" lang="en-US" sz="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=100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Model 2 (</a:t>
                      </a:r>
                      <a:r>
                        <a:rPr b="0" i="1" lang="en-US" sz="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Halton</a:t>
                      </a:r>
                      <a:r>
                        <a:rPr b="0" lang="en-US" sz="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=100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ttribut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ar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(</a:t>
                      </a:r>
                      <a:r>
                        <a:rPr b="0" i="1" lang="en-US" sz="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</a:t>
                      </a:r>
                      <a:r>
                        <a:rPr b="0" lang="en-US" sz="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ratio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ar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(</a:t>
                      </a:r>
                      <a:r>
                        <a:rPr b="0" i="1" lang="en-US" sz="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</a:t>
                      </a:r>
                      <a:r>
                        <a:rPr b="0" lang="en-US" sz="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ratio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Air NZ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.69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8.92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.1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8.71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Qanta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.45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8.98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.8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8.74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Virgi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.95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8.89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.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8.67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 gridSpan="5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andom Parameter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Fare (mean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0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-9.13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3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-8.74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Fare (std dev.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7.98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4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7.66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Flight Time (mean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7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-9.56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Flight Time (std dev.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0.72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Variability (mean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09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-0.50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.7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-1.10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Variability (std dev.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.9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.96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.8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4.31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 gridSpan="5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ixed Parameter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Flight Tim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6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-9.30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Departure 6am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4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-2.89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49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-2.91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Departure 10am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83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4.45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0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2.28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Departure 2pm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3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.98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4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2.74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5640">
                <a:tc gridSpan="5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del Fit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L(ASC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7bb5e9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565.23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bdda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565.23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bdda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L(</a:t>
                      </a:r>
                      <a:r>
                        <a:rPr b="1" i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β</a:t>
                      </a: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bb5e9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728.16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da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709.4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da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ρ</a:t>
                      </a:r>
                      <a:r>
                        <a:rPr b="1" lang="en-US" sz="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bb5e9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3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da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4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da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5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j. </a:t>
                      </a:r>
                      <a:r>
                        <a:rPr b="1" i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ρ</a:t>
                      </a:r>
                      <a:r>
                        <a:rPr b="1" lang="en-US" sz="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bb5e9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3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a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3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a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MNL model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: Practical consider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"/>
          <p:cNvSpPr txBox="1"/>
          <p:nvPr/>
        </p:nvSpPr>
        <p:spPr>
          <a:xfrm>
            <a:off x="250920" y="1773360"/>
            <a:ext cx="8663040" cy="468000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rmAutofit/>
          </a:bodyPr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The estimation of the MMNL requires that the analyst make a number of estimation related decis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396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What parameters to include in the model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396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What parameters to treat as random parameter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396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1800" spc="-1" strike="noStrike">
                <a:solidFill>
                  <a:srgbClr val="88a0b5"/>
                </a:solidFill>
                <a:latin typeface="Arial"/>
              </a:rPr>
              <a:t>What distributional form should the parameters tak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396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What type of draws to use in estimation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396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ow many draws to use in esti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663040" cy="4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ts val="1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Decisions, decisions, decision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Slide Number Placeholder 3"/>
          <p:cNvSpPr/>
          <p:nvPr/>
        </p:nvSpPr>
        <p:spPr>
          <a:xfrm>
            <a:off x="8664480" y="6586560"/>
            <a:ext cx="249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A957E-E037-46CF-BA44-ACF602255BD5}" type="slidenum">
              <a:rPr b="0" lang="en-US" sz="900" spc="-1" strike="noStrike">
                <a:solidFill>
                  <a:srgbClr val="ce1126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MNL model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: Practical consider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663040" cy="4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ts val="1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Choice of distribution 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Slide Number Placeholder 3"/>
          <p:cNvSpPr/>
          <p:nvPr/>
        </p:nvSpPr>
        <p:spPr>
          <a:xfrm>
            <a:off x="8664480" y="6586560"/>
            <a:ext cx="249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03CB2-600B-4287-95A0-F78FD1B5153A}" type="slidenum">
              <a:rPr b="0" lang="en-US" sz="900" spc="-1" strike="noStrike">
                <a:solidFill>
                  <a:srgbClr val="ce1126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8" name=""/>
          <p:cNvGraphicFramePr/>
          <p:nvPr/>
        </p:nvGraphicFramePr>
        <p:xfrm>
          <a:off x="700200" y="1816200"/>
          <a:ext cx="7867440" cy="4543200"/>
        </p:xfrm>
        <a:graphic>
          <a:graphicData uri="http://schemas.openxmlformats.org/drawingml/2006/table">
            <a:tbl>
              <a:tblPr/>
              <a:tblGrid>
                <a:gridCol w="1295280"/>
                <a:gridCol w="858960"/>
                <a:gridCol w="730080"/>
                <a:gridCol w="901800"/>
                <a:gridCol w="730080"/>
                <a:gridCol w="858960"/>
                <a:gridCol w="730080"/>
                <a:gridCol w="858960"/>
                <a:gridCol w="903240"/>
              </a:tblGrid>
              <a:tr h="239040"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Model 1 (N) (</a:t>
                      </a:r>
                      <a:r>
                        <a:rPr b="0" i="1" lang="en-US" sz="9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Halton</a:t>
                      </a:r>
                      <a:r>
                        <a:rPr b="0" lang="en-US" sz="9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=100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Model 2 (L)</a:t>
                      </a:r>
                      <a:r>
                        <a:rPr b="0" i="1" lang="en-US" sz="9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(Halton</a:t>
                      </a:r>
                      <a:r>
                        <a:rPr b="0" lang="en-US" sz="9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=100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Model 3 (T) (</a:t>
                      </a:r>
                      <a:r>
                        <a:rPr b="0" i="1" lang="en-US" sz="9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Halton</a:t>
                      </a:r>
                      <a:r>
                        <a:rPr b="0" lang="en-US" sz="9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=100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Model 4 (U) (</a:t>
                      </a:r>
                      <a:r>
                        <a:rPr b="0" i="1" lang="en-US" sz="9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Halton</a:t>
                      </a:r>
                      <a:r>
                        <a:rPr b="0" lang="en-US" sz="9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=100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8960"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ttribut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ar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(</a:t>
                      </a:r>
                      <a:r>
                        <a:rPr b="0" i="1" lang="en-US" sz="9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</a:t>
                      </a:r>
                      <a:r>
                        <a:rPr b="0" lang="en-US" sz="9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ratio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ar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(</a:t>
                      </a:r>
                      <a:r>
                        <a:rPr b="0" i="1" lang="en-US" sz="9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</a:t>
                      </a:r>
                      <a:r>
                        <a:rPr b="0" lang="en-US" sz="9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ratio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ar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(</a:t>
                      </a:r>
                      <a:r>
                        <a:rPr b="0" i="1" lang="en-US" sz="9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</a:t>
                      </a:r>
                      <a:r>
                        <a:rPr b="0" lang="en-US" sz="9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ratio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ar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(</a:t>
                      </a:r>
                      <a:r>
                        <a:rPr b="0" i="1" lang="en-US" sz="9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</a:t>
                      </a:r>
                      <a:r>
                        <a:rPr b="0" lang="en-US" sz="9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ratio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</a:tr>
              <a:tr h="228960"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Air NZ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.0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8.83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.55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1.17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.18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8.97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.56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7.81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28960"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Qanta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.87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8.87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.4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1.15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.96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9.01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.35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7.82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28960"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Virgi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.34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8.79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98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1.140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.46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8.93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.86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7.76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8960">
                <a:tc gridSpan="9"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andom Parameter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8960"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Fare (mean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0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-8.82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59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-9.74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0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-9.10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4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-7.71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28960"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Fare (std dev.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2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7.48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1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7.46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9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7.77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6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6.79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28960"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Variability (mean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.06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-0.90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43.50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0.00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97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-0.88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95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-0.99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39040"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Variability (std dev.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.78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3.65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57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0.00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.87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2.60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.38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3.96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8960">
                <a:tc gridSpan="9"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ixed Parameter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8960"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Flight Tim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6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-9.79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5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3.99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6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-9.64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6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-10.78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28960"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Departure 6a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49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-3.16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44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-3.68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48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-3.10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46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-3.12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28960"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Departure 10a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9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4.45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5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3.83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79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4.38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75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4.40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28960"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Departure 2p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6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2.00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3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0.96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9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.82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7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.68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8960">
                <a:tc gridSpan="9"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del Fit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3480"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L(ASC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7bb5e9"/>
                    </a:solidFill>
                  </a:tcPr>
                </a:tc>
                <a:tc gridSpan="2"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565.23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bdda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565.23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bdda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565.23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bdda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565.23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bdda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3480"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L(</a:t>
                      </a:r>
                      <a:r>
                        <a:rPr b="1" i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β</a:t>
                      </a: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bb5e9"/>
                    </a:solidFill>
                  </a:tcPr>
                </a:tc>
                <a:tc gridSpan="2"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723.27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da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692.27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da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722.48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da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728.15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da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3480"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l-G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ρ</a:t>
                      </a:r>
                      <a:r>
                        <a:rPr b="1" lang="el-GR" sz="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bb5e9"/>
                    </a:solidFill>
                  </a:tcPr>
                </a:tc>
                <a:tc gridSpan="2"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3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da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4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da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3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da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3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da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3480"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j. </a:t>
                      </a:r>
                      <a:r>
                        <a:rPr b="1" i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ρ</a:t>
                      </a:r>
                      <a:r>
                        <a:rPr b="1" lang="en-US" sz="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bb5e9"/>
                    </a:solidFill>
                  </a:tcPr>
                </a:tc>
                <a:tc gridSpan="2"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3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a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4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a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3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a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3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a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MNL model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: Practical consider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663040" cy="4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ts val="1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Choice of distribution 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Slide Number Placeholder 3"/>
          <p:cNvSpPr/>
          <p:nvPr/>
        </p:nvSpPr>
        <p:spPr>
          <a:xfrm>
            <a:off x="8664480" y="6586560"/>
            <a:ext cx="249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CFDCD-E132-4747-B585-13399305DD81}" type="slidenum">
              <a:rPr b="0" lang="en-US" sz="900" spc="-1" strike="noStrike">
                <a:solidFill>
                  <a:srgbClr val="ce1126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2" name=""/>
          <p:cNvGraphicFramePr/>
          <p:nvPr/>
        </p:nvGraphicFramePr>
        <p:xfrm>
          <a:off x="1449360" y="1816200"/>
          <a:ext cx="6337440" cy="4543200"/>
        </p:xfrm>
        <a:graphic>
          <a:graphicData uri="http://schemas.openxmlformats.org/drawingml/2006/table">
            <a:tbl>
              <a:tblPr/>
              <a:tblGrid>
                <a:gridCol w="1295280"/>
                <a:gridCol w="858960"/>
                <a:gridCol w="870120"/>
                <a:gridCol w="901440"/>
                <a:gridCol w="719280"/>
                <a:gridCol w="858960"/>
                <a:gridCol w="833400"/>
              </a:tblGrid>
              <a:tr h="239040"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Model 1 (Mix 1) (</a:t>
                      </a:r>
                      <a:r>
                        <a:rPr b="0" i="1" lang="en-US" sz="9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Halton</a:t>
                      </a:r>
                      <a:r>
                        <a:rPr b="0" lang="en-US" sz="9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=100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Model 2 Mix 2(</a:t>
                      </a:r>
                      <a:r>
                        <a:rPr b="0" i="1" lang="en-US" sz="9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Halton</a:t>
                      </a:r>
                      <a:r>
                        <a:rPr b="0" lang="en-US" sz="9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=100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Model 3 Mix 1) (</a:t>
                      </a:r>
                      <a:r>
                        <a:rPr b="0" i="1" lang="en-US" sz="9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Halton</a:t>
                      </a:r>
                      <a:r>
                        <a:rPr b="0" lang="en-US" sz="9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=100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8960"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ttribut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ar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(</a:t>
                      </a:r>
                      <a:r>
                        <a:rPr b="0" i="1" lang="en-US" sz="9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</a:t>
                      </a:r>
                      <a:r>
                        <a:rPr b="0" lang="en-US" sz="9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ratio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ar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(</a:t>
                      </a:r>
                      <a:r>
                        <a:rPr b="0" i="1" lang="en-US" sz="9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</a:t>
                      </a:r>
                      <a:r>
                        <a:rPr b="0" lang="en-US" sz="9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ratio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ar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(</a:t>
                      </a:r>
                      <a:r>
                        <a:rPr b="0" i="1" lang="en-US" sz="9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</a:t>
                      </a:r>
                      <a:r>
                        <a:rPr b="0" lang="en-US" sz="9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ratio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</a:tr>
              <a:tr h="228960"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Air NZ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40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3.56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.46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3.58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.99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2.38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28960"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Qanta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..27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3.55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.3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3.58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.80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2.45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28960"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Virgi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.80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3.52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.81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3.55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.30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2.34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8960">
                <a:tc gridSpan="7"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3.55Random Parameter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8960"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Fare (mean)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51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-8.09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44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-7.65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9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-12.18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28960"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Fare (std dev.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8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7.29) (L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7.45) (L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1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9.55) (N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28960"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Variability (mean)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79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-0.97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.37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-1.10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2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0.131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39040"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Variability (std dev.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92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0.99) (N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.84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2.82) (U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7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0.01) (U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8960">
                <a:tc gridSpan="7"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ixed Parameter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8960"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Flight Tim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5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-11.74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6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-12.26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5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-13.43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28960"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Departure 6a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43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-3.46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48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-3.61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36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-2.78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28960"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Departure 10a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8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3.92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62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3.94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79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4.90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28960"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Departure 2p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4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.05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7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.20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1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2.06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8960">
                <a:tc gridSpan="7"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del Fit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3480"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L(ASC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7bb5e9"/>
                    </a:solidFill>
                  </a:tcPr>
                </a:tc>
                <a:tc gridSpan="2"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565.23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bdda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565.23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bdda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565.23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bdda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3480"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L(</a:t>
                      </a:r>
                      <a:r>
                        <a:rPr b="1" i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β</a:t>
                      </a: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bb5e9"/>
                    </a:solidFill>
                  </a:tcPr>
                </a:tc>
                <a:tc gridSpan="2"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690.68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da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685.8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da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.716.26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da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3480"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l-G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ρ</a:t>
                      </a:r>
                      <a:r>
                        <a:rPr b="1" lang="el-GR" sz="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bb5e9"/>
                    </a:solidFill>
                  </a:tcPr>
                </a:tc>
                <a:tc gridSpan="2"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4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da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4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da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3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da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3480"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j. </a:t>
                      </a:r>
                      <a:r>
                        <a:rPr b="1" i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ρ</a:t>
                      </a:r>
                      <a:r>
                        <a:rPr b="1" lang="en-US" sz="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bb5e9"/>
                    </a:solidFill>
                  </a:tcPr>
                </a:tc>
                <a:tc gridSpan="2"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4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a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4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a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3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a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MNL model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: Practical consider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"/>
          <p:cNvSpPr txBox="1"/>
          <p:nvPr/>
        </p:nvSpPr>
        <p:spPr>
          <a:xfrm>
            <a:off x="250920" y="1773360"/>
            <a:ext cx="8663040" cy="468000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rmAutofit/>
          </a:bodyPr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The estimation of the MMNL requires that the analyst make a number of estimation related decis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396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What parameters to include in the model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396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What parameters to treat as random parameter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396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What distributional form should the parameters tak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396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88a0b5"/>
                </a:solidFill>
                <a:latin typeface="Arial"/>
              </a:rPr>
              <a:t>What type of </a:t>
            </a:r>
            <a:r>
              <a:rPr b="1" i="1" lang="en-AU" sz="1800" spc="-1" strike="noStrike">
                <a:solidFill>
                  <a:srgbClr val="88a0b5"/>
                </a:solidFill>
                <a:latin typeface="Arial"/>
              </a:rPr>
              <a:t>draws </a:t>
            </a:r>
            <a:r>
              <a:rPr b="1" lang="en-AU" sz="1800" spc="-1" strike="noStrike">
                <a:solidFill>
                  <a:srgbClr val="88a0b5"/>
                </a:solidFill>
                <a:latin typeface="Arial"/>
              </a:rPr>
              <a:t>to use in estimation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396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ow many </a:t>
            </a:r>
            <a:r>
              <a:rPr b="0" i="1" lang="en-AU" sz="1800" spc="-1" strike="noStrike">
                <a:solidFill>
                  <a:srgbClr val="000000"/>
                </a:solidFill>
                <a:latin typeface="Arial"/>
              </a:rPr>
              <a:t>draws </a:t>
            </a: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to use in esti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663040" cy="4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ts val="1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Decisions, decisions, decision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Slide Number Placeholder 3"/>
          <p:cNvSpPr/>
          <p:nvPr/>
        </p:nvSpPr>
        <p:spPr>
          <a:xfrm>
            <a:off x="8664480" y="6586560"/>
            <a:ext cx="249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E8599-AA20-470C-91B4-0D030F4A71E0}" type="slidenum">
              <a:rPr b="0" lang="en-US" sz="900" spc="-1" strike="noStrike">
                <a:solidFill>
                  <a:srgbClr val="ce1126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MNL model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: Practical consider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663040" cy="4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ts val="1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Choice of type of dra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Slide Number Placeholder 3"/>
          <p:cNvSpPr/>
          <p:nvPr/>
        </p:nvSpPr>
        <p:spPr>
          <a:xfrm>
            <a:off x="8664480" y="6586560"/>
            <a:ext cx="249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6465D-800B-4664-9992-C5FB892D0505}" type="slidenum">
              <a:rPr b="0" lang="en-US" sz="900" spc="-1" strike="noStrike">
                <a:solidFill>
                  <a:srgbClr val="ce1126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0" name=""/>
          <p:cNvGraphicFramePr/>
          <p:nvPr/>
        </p:nvGraphicFramePr>
        <p:xfrm>
          <a:off x="631800" y="1871640"/>
          <a:ext cx="7878960" cy="4308480"/>
        </p:xfrm>
        <a:graphic>
          <a:graphicData uri="http://schemas.openxmlformats.org/drawingml/2006/table">
            <a:tbl>
              <a:tblPr/>
              <a:tblGrid>
                <a:gridCol w="1106640"/>
                <a:gridCol w="662040"/>
                <a:gridCol w="691920"/>
                <a:gridCol w="663480"/>
                <a:gridCol w="690840"/>
                <a:gridCol w="663480"/>
                <a:gridCol w="692280"/>
                <a:gridCol w="661680"/>
                <a:gridCol w="692280"/>
                <a:gridCol w="662040"/>
                <a:gridCol w="692280"/>
              </a:tblGrid>
              <a:tr h="243720"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Random 1 (</a:t>
                      </a:r>
                      <a:r>
                        <a:rPr b="0" i="1" lang="en-US" sz="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R</a:t>
                      </a:r>
                      <a:r>
                        <a:rPr b="0" lang="en-US" sz="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=100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Random 2 (</a:t>
                      </a:r>
                      <a:r>
                        <a:rPr b="0" i="1" lang="en-US" sz="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R</a:t>
                      </a:r>
                      <a:r>
                        <a:rPr b="0" lang="en-US" sz="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=100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Random 3 (</a:t>
                      </a:r>
                      <a:r>
                        <a:rPr b="0" i="1" lang="en-US" sz="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R</a:t>
                      </a:r>
                      <a:r>
                        <a:rPr b="0" lang="en-US" sz="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=100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Halton (</a:t>
                      </a:r>
                      <a:r>
                        <a:rPr b="0" i="1" lang="en-US" sz="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R</a:t>
                      </a:r>
                      <a:r>
                        <a:rPr b="0" lang="en-US" sz="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=100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huffled Halton  (</a:t>
                      </a:r>
                      <a:r>
                        <a:rPr b="0" i="1" lang="en-US" sz="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R</a:t>
                      </a:r>
                      <a:r>
                        <a:rPr b="0" lang="en-US" sz="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=100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3480"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ttribut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ar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(</a:t>
                      </a:r>
                      <a:r>
                        <a:rPr b="0" i="1" lang="en-US" sz="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</a:t>
                      </a:r>
                      <a:r>
                        <a:rPr b="0" lang="en-US" sz="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ratio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ar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(</a:t>
                      </a:r>
                      <a:r>
                        <a:rPr b="0" i="1" lang="en-US" sz="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</a:t>
                      </a:r>
                      <a:r>
                        <a:rPr b="0" lang="en-US" sz="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ratio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ar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(</a:t>
                      </a:r>
                      <a:r>
                        <a:rPr b="0" i="1" lang="en-US" sz="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</a:t>
                      </a:r>
                      <a:r>
                        <a:rPr b="0" lang="en-US" sz="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ratio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ar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(</a:t>
                      </a:r>
                      <a:r>
                        <a:rPr b="0" i="1" lang="en-US" sz="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</a:t>
                      </a:r>
                      <a:r>
                        <a:rPr b="0" lang="en-US" sz="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ratio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ar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(</a:t>
                      </a:r>
                      <a:r>
                        <a:rPr b="0" i="1" lang="en-US" sz="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</a:t>
                      </a:r>
                      <a:r>
                        <a:rPr b="0" lang="en-US" sz="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ratio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</a:tr>
              <a:tr h="213480"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Air NZ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.69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8.92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.7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8.78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.98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9.58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.0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8.83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.7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8.52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13480"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Qanta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.45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8.98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.46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8.82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.73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9.63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.87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8.87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.42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8.55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13840"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Virgi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.95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8.89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.9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8.75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.19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9.55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.34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8.79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.85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8.49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3480">
                <a:tc gridSpan="11"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andom Parameter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3480"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Fare (mean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0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-9.13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-8.82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0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-9.57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0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-8.82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2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-8.55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13840"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Fare (std dev.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7.98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3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7.60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8.29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7.48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4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7.63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13480"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Variability (mean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09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-0.50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.20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-0.94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.04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-0.91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.06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-0.90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.52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-1.03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13480"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Variability (std dev.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.9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.96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.42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3.67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.01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3.57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.78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3.65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.94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3.49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3480">
                <a:tc gridSpan="11"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ixed Parameter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3480"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Flight Tim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6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-9.30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6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-9.70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6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-10.22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6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-9.79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6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-9.79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13480"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Departure 6am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4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-2.89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50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-3.19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45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-2.92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4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-3.16)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4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-3.16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23200"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Departure 10am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83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4.45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9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4.51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92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4.70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9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4.45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9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-4.45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13480"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Departure 2pm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3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.98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4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.89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7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2.14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6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2.00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6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-2.00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3480">
                <a:tc gridSpan="11"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del Fit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3480"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L(ASC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7bb5e9"/>
                    </a:solidFill>
                  </a:tcPr>
                </a:tc>
                <a:tc gridSpan="2"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565.23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bdda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565.23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bdda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565.23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bdda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565.23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bdda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565.23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bdda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3480"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L(</a:t>
                      </a:r>
                      <a:r>
                        <a:rPr b="1" i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β</a:t>
                      </a: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bb5e9"/>
                    </a:solidFill>
                  </a:tcPr>
                </a:tc>
                <a:tc gridSpan="2"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728.16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da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727.01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da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719.7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da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723.27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da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708.29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da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3480"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ρ</a:t>
                      </a:r>
                      <a:r>
                        <a:rPr b="1" lang="en-US" sz="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bb5e9"/>
                    </a:solidFill>
                  </a:tcPr>
                </a:tc>
                <a:tc gridSpan="2"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3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da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3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da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3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da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3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da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4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da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3480"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j. </a:t>
                      </a:r>
                      <a:r>
                        <a:rPr b="1" i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ρ</a:t>
                      </a:r>
                      <a:r>
                        <a:rPr b="1" lang="en-US" sz="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bb5e9"/>
                    </a:solidFill>
                  </a:tcPr>
                </a:tc>
                <a:tc gridSpan="2"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3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a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a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3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a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3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a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3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a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MNL model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: Practical consider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" name=""/>
          <p:cNvSpPr txBox="1"/>
          <p:nvPr/>
        </p:nvSpPr>
        <p:spPr>
          <a:xfrm>
            <a:off x="250920" y="1773360"/>
            <a:ext cx="8663040" cy="468000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rmAutofit/>
          </a:bodyPr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The estimation of the MMNL requires that the analyst make a number of estimation related decis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396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What parameters to include in the model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396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What parameters to treat as random parameter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396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What distributional form should the parameters tak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396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What type of draws to use in estimation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396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1800" spc="-1" strike="noStrike">
                <a:solidFill>
                  <a:srgbClr val="88a0b5"/>
                </a:solidFill>
                <a:latin typeface="Arial"/>
              </a:rPr>
              <a:t>How many draws to use in esti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663040" cy="4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ts val="1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Decisions, decisions, decision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Slide Number Placeholder 3"/>
          <p:cNvSpPr/>
          <p:nvPr/>
        </p:nvSpPr>
        <p:spPr>
          <a:xfrm>
            <a:off x="8664480" y="6586560"/>
            <a:ext cx="249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5DE52-FD17-482B-A640-1EA56132126D}" type="slidenum">
              <a:rPr b="0" lang="en-US" sz="900" spc="-1" strike="noStrike">
                <a:solidFill>
                  <a:srgbClr val="ce1126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MNL model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: Practical consider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663040" cy="4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ts val="1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Number of dra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Slide Number Placeholder 3"/>
          <p:cNvSpPr/>
          <p:nvPr/>
        </p:nvSpPr>
        <p:spPr>
          <a:xfrm>
            <a:off x="8664480" y="6586560"/>
            <a:ext cx="249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D0C7E-978B-48AF-A624-263B8FB28115}" type="slidenum">
              <a:rPr b="0" lang="en-US" sz="900" spc="-1" strike="noStrike">
                <a:solidFill>
                  <a:srgbClr val="ce1126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8" name=""/>
          <p:cNvGraphicFramePr/>
          <p:nvPr/>
        </p:nvGraphicFramePr>
        <p:xfrm>
          <a:off x="592200" y="1811160"/>
          <a:ext cx="7959600" cy="4724640"/>
        </p:xfrm>
        <a:graphic>
          <a:graphicData uri="http://schemas.openxmlformats.org/drawingml/2006/table">
            <a:tbl>
              <a:tblPr/>
              <a:tblGrid>
                <a:gridCol w="1187280"/>
                <a:gridCol w="662040"/>
                <a:gridCol w="692280"/>
                <a:gridCol w="663480"/>
                <a:gridCol w="690480"/>
                <a:gridCol w="663840"/>
                <a:gridCol w="691920"/>
                <a:gridCol w="662040"/>
                <a:gridCol w="692280"/>
                <a:gridCol w="662040"/>
                <a:gridCol w="691920"/>
              </a:tblGrid>
              <a:tr h="231840"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Model 1 (50 Halton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Model 2 (100 Halton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Model 3 (250 Halton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Model 4 (500 Halton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Model 5 (1000) Halto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3480"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ttribut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ar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(</a:t>
                      </a:r>
                      <a:r>
                        <a:rPr b="0" i="1" lang="en-US" sz="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</a:t>
                      </a:r>
                      <a:r>
                        <a:rPr b="0" lang="en-US" sz="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ratio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ar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(</a:t>
                      </a:r>
                      <a:r>
                        <a:rPr b="0" i="1" lang="en-US" sz="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</a:t>
                      </a:r>
                      <a:r>
                        <a:rPr b="0" lang="en-US" sz="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ratio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ar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(</a:t>
                      </a:r>
                      <a:r>
                        <a:rPr b="0" i="1" lang="en-US" sz="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</a:t>
                      </a:r>
                      <a:r>
                        <a:rPr b="0" lang="en-US" sz="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ratio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ar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(</a:t>
                      </a:r>
                      <a:r>
                        <a:rPr b="0" i="1" lang="en-US" sz="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</a:t>
                      </a:r>
                      <a:r>
                        <a:rPr b="0" lang="en-US" sz="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ratio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ar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(</a:t>
                      </a:r>
                      <a:r>
                        <a:rPr b="0" i="1" lang="en-US" sz="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</a:t>
                      </a:r>
                      <a:r>
                        <a:rPr b="0" lang="en-US" sz="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ratio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</a:tr>
              <a:tr h="213480"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Air NZ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.8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2.48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.0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8.83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.86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2.14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.83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2.11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.8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8.76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13480"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Qanta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.66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2.55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.87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8.87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.66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2.21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.64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2.18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.5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8.79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13480"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Virgi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.16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2.45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.34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8.79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.16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2.10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.14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2.08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.93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8.73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3480">
                <a:tc gridSpan="11"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andom Parameter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3480"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Fare (mean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8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-12.28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0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-8.82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8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-12.01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8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-12.01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3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-8.70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13480"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Fare (std dev.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9.63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7.48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9.34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9.35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4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7.86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13480"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Variability (mean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6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-0.10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.06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-0.90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.37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-0.92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.34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-1.01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.38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.13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13480"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Variability (std dev.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.38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.03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.78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3.65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.35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3.71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.23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4.02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.20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4.14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3480">
                <a:tc gridSpan="11"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ixed Parameter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3480"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Flight Tim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5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-13.39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6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-9.79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5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-13.28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5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-13.11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7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-9.60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13480"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Departure 6am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36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-2.79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4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-3.16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36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-2.81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36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-2.79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48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-2.86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13480"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Departure 10am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78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4.90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9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4.45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79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4.91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79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4.92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3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4.64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13480"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Departure 2pm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0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2.05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6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2.00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1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2.08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2.09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7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2.36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3480">
                <a:tc gridSpan="11"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stimation Tim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3480"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Minute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 gridSpan="2"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4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3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.2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7.5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3480">
                <a:tc gridSpan="11"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del Fit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3480"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L(ASC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7bb5e9"/>
                    </a:solidFill>
                  </a:tcPr>
                </a:tc>
                <a:tc gridSpan="2"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565.23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bdda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565.23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bdda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565.23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bdda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565.23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bdda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565.23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bdda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3480"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L(</a:t>
                      </a:r>
                      <a:r>
                        <a:rPr b="1" i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β</a:t>
                      </a: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bb5e9"/>
                    </a:solidFill>
                  </a:tcPr>
                </a:tc>
                <a:tc gridSpan="2"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716.32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da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723.27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da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715.76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da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715.46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da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708.29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da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3480"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ρ</a:t>
                      </a:r>
                      <a:r>
                        <a:rPr b="1" lang="en-US" sz="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bb5e9"/>
                    </a:solidFill>
                  </a:tcPr>
                </a:tc>
                <a:tc gridSpan="2"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3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da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3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da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3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da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3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da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4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da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3480"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j. </a:t>
                      </a:r>
                      <a:r>
                        <a:rPr b="1" i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ρ</a:t>
                      </a:r>
                      <a:r>
                        <a:rPr b="1" lang="en-US" sz="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bb5e9"/>
                    </a:solidFill>
                  </a:tcPr>
                </a:tc>
                <a:tc gridSpan="2"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3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a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3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a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3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a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3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a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3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a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MNL model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: Practical consider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"/>
          <p:cNvSpPr txBox="1"/>
          <p:nvPr/>
        </p:nvSpPr>
        <p:spPr>
          <a:xfrm>
            <a:off x="250920" y="1773360"/>
            <a:ext cx="8663040" cy="468000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rmAutofit/>
          </a:bodyPr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The estimation of the MMNL requires that the analyst make a number of estimation related decis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396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What parameters to include in the model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396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What parameters to treat as random parameter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396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What distributional form should the parameters tak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396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What type of draws to use in estimation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396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ow many draws to use in esti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663040" cy="4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ts val="1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Decisions, decisions, decision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8664480" y="6586560"/>
            <a:ext cx="249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34FE4-55EE-4274-A378-141958A18600}" type="slidenum">
              <a:rPr b="0" lang="en-US" sz="900" spc="-1" strike="noStrike">
                <a:solidFill>
                  <a:srgbClr val="ce1126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285480" y="1777680"/>
            <a:ext cx="759924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MNL model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: Correlated random parame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7892640" y="1777680"/>
            <a:ext cx="1143000" cy="1079640"/>
          </a:xfrm>
          <a:prstGeom prst="rect">
            <a:avLst/>
          </a:prstGeom>
          <a:noFill/>
          <a:ln w="0">
            <a:noFill/>
          </a:ln>
        </p:spPr>
        <p:txBody>
          <a:bodyPr lIns="0" anchor="ctr">
            <a:normAutofit/>
          </a:bodyPr>
          <a:p>
            <a:pPr marL="174600" indent="0" algn="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Introduction: The MNL mod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663040" cy="4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ts val="1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The MNL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Slide Number Placeholder 3"/>
          <p:cNvSpPr/>
          <p:nvPr/>
        </p:nvSpPr>
        <p:spPr>
          <a:xfrm>
            <a:off x="8664480" y="6586560"/>
            <a:ext cx="249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71A6D-46B1-432A-8FDB-CF1275438052}" type="slidenum">
              <a:rPr b="0" lang="en-US" sz="900" spc="-1" strike="noStrike">
                <a:solidFill>
                  <a:srgbClr val="ce1126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 txBox="1"/>
          <p:nvPr/>
        </p:nvSpPr>
        <p:spPr>
          <a:xfrm>
            <a:off x="895320" y="2039400"/>
            <a:ext cx="7182000" cy="341820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rmAutofit/>
          </a:bodyPr>
          <a:p>
            <a:pPr marL="174600" indent="-1746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The MNL model represents the mostly widely used choice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396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owever the model is based on very strict assump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539640" indent="-177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IID random components of R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39640" indent="-177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Independence of observed cho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539640" indent="-17784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ff0000"/>
                </a:solidFill>
                <a:latin typeface="Arial"/>
              </a:rPr>
              <a:t>Homogeneity of preferences – the same preference weights, </a:t>
            </a:r>
            <a:r>
              <a:rPr b="1" lang="en-AU" sz="2000" spc="-1" strike="noStrike">
                <a:solidFill>
                  <a:srgbClr val="ff0000"/>
                </a:solidFill>
                <a:latin typeface="Symbol"/>
                <a:ea typeface="Symbol"/>
              </a:rPr>
              <a:t></a:t>
            </a:r>
            <a:r>
              <a:rPr b="1" lang="en-AU" sz="2000" spc="-1" strike="noStrike">
                <a:solidFill>
                  <a:srgbClr val="ff0000"/>
                </a:solidFill>
                <a:latin typeface="Arial"/>
              </a:rPr>
              <a:t>, apply to all individua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396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0070c0"/>
                </a:solidFill>
                <a:latin typeface="Arial"/>
              </a:rPr>
              <a:t>Relaxing the homogeneity assumption relaxes the other assumptions as wel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MNL model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: Panel mod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"/>
          <p:cNvSpPr txBox="1"/>
          <p:nvPr/>
        </p:nvSpPr>
        <p:spPr>
          <a:xfrm>
            <a:off x="250920" y="1773360"/>
            <a:ext cx="8663040" cy="468000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rmAutofit/>
          </a:bodyPr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The estimation of the MMNL requires that the analyst make a number of estimation related decis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396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What parameters to include in the model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396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What parameters to treat as random parameter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396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What distributional form should the parameters tak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396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What type of draws to use in estimation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396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ow many draws to use in estimation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396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88a0b5"/>
                </a:solidFill>
                <a:latin typeface="Arial"/>
              </a:rPr>
              <a:t>Whether to allow for correlated random parame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663040" cy="4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ts val="1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Decisions, decisions, decision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Slide Number Placeholder 3"/>
          <p:cNvSpPr/>
          <p:nvPr/>
        </p:nvSpPr>
        <p:spPr>
          <a:xfrm>
            <a:off x="8664480" y="6586560"/>
            <a:ext cx="249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80B87-9C16-40CF-B1CC-BBAB693635BA}" type="slidenum">
              <a:rPr b="0" lang="en-US" sz="900" spc="-1" strike="noStrike">
                <a:solidFill>
                  <a:srgbClr val="ce1126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MNL model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: Correlated random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"/>
          <p:cNvSpPr txBox="1"/>
          <p:nvPr/>
        </p:nvSpPr>
        <p:spPr>
          <a:xfrm>
            <a:off x="250920" y="1773360"/>
            <a:ext cx="8663040" cy="468000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rmAutofit/>
          </a:bodyPr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Thus far, we have made the (implicit) assumption that the random parameters are uncorrelated with each other. Consi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When there is more than one random parameter, we have thus far assumed that z</a:t>
            </a:r>
            <a:r>
              <a:rPr b="0" i="1" lang="en-AU" sz="2000" spc="-1" strike="noStrike" baseline="-25000">
                <a:solidFill>
                  <a:srgbClr val="000000"/>
                </a:solidFill>
                <a:latin typeface="Arial"/>
              </a:rPr>
              <a:t>nk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are drawn from independent distribution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663040" cy="4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ts val="1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What have we been doing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2" name="Object 2"/>
          <p:cNvGraphicFramePr/>
          <p:nvPr/>
        </p:nvGraphicFramePr>
        <p:xfrm>
          <a:off x="2200320" y="2470320"/>
          <a:ext cx="306684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0320" y="2470320"/>
                    <a:ext cx="306684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4" name="Slide Number Placeholder 3"/>
          <p:cNvSpPr/>
          <p:nvPr/>
        </p:nvSpPr>
        <p:spPr>
          <a:xfrm>
            <a:off x="8664480" y="6586560"/>
            <a:ext cx="249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08A0A-9054-4A7F-BB52-C4F366F051B8}" type="slidenum">
              <a:rPr b="0" lang="en-US" sz="900" spc="-1" strike="noStrike">
                <a:solidFill>
                  <a:srgbClr val="ce1126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MNL model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: Correlated random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"/>
          <p:cNvSpPr txBox="1"/>
          <p:nvPr/>
        </p:nvSpPr>
        <p:spPr>
          <a:xfrm>
            <a:off x="250920" y="1773000"/>
            <a:ext cx="8663040" cy="102708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rmAutofit/>
          </a:bodyPr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We begin with the natural case, correlated normals:  A three parameter model will be sufficiently general to illustra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663040" cy="4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ts val="1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A set of correlated random parame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Slide Number Placeholder 3"/>
          <p:cNvSpPr/>
          <p:nvPr/>
        </p:nvSpPr>
        <p:spPr>
          <a:xfrm>
            <a:off x="8664480" y="6586560"/>
            <a:ext cx="249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99B90-8B05-429A-BA84-5E6B83E7E1D0}" type="slidenum">
              <a:rPr b="0" lang="en-US" sz="900" spc="-1" strike="noStrike">
                <a:solidFill>
                  <a:srgbClr val="ce1126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9" name="Object 7"/>
          <p:cNvGraphicFramePr/>
          <p:nvPr/>
        </p:nvGraphicFramePr>
        <p:xfrm>
          <a:off x="771480" y="2728800"/>
          <a:ext cx="7005600" cy="336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0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1480" y="2728800"/>
                    <a:ext cx="7005600" cy="336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MNL model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: Correlated random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"/>
          <p:cNvSpPr txBox="1"/>
          <p:nvPr/>
        </p:nvSpPr>
        <p:spPr>
          <a:xfrm>
            <a:off x="250920" y="1773000"/>
            <a:ext cx="8663040" cy="102708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rmAutofit/>
          </a:bodyPr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We begin with the natural case, correlated normals:  A three parameter model will illustra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663040" cy="4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ts val="1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A set of correlated random parame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Slide Number Placeholder 3"/>
          <p:cNvSpPr/>
          <p:nvPr/>
        </p:nvSpPr>
        <p:spPr>
          <a:xfrm>
            <a:off x="8664480" y="6586560"/>
            <a:ext cx="249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AC511-B710-4AC5-9CE3-2C5EA0433864}" type="slidenum">
              <a:rPr b="0" lang="en-US" sz="900" spc="-1" strike="noStrike">
                <a:solidFill>
                  <a:srgbClr val="ce1126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5" name="Object 2"/>
          <p:cNvGraphicFramePr/>
          <p:nvPr/>
        </p:nvGraphicFramePr>
        <p:xfrm>
          <a:off x="638280" y="2830680"/>
          <a:ext cx="8061120" cy="314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8280" y="2830680"/>
                    <a:ext cx="8061120" cy="314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MNL model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: Correlated random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663040" cy="4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ts val="1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A set of correlated random parame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Slide Number Placeholder 3"/>
          <p:cNvSpPr/>
          <p:nvPr/>
        </p:nvSpPr>
        <p:spPr>
          <a:xfrm>
            <a:off x="8664480" y="6586560"/>
            <a:ext cx="249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2B00A-B933-471A-93C5-90DF78F1AB62}" type="slidenum">
              <a:rPr b="0" lang="en-US" sz="900" spc="-1" strike="noStrike">
                <a:solidFill>
                  <a:srgbClr val="ce1126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0" name="Object 2"/>
          <p:cNvGraphicFramePr/>
          <p:nvPr/>
        </p:nvGraphicFramePr>
        <p:xfrm>
          <a:off x="717480" y="1890720"/>
          <a:ext cx="7324920" cy="426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7480" y="1890720"/>
                    <a:ext cx="7324920" cy="426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MNL model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: Correlated random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663040" cy="4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ts val="1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Slide Number Placeholder 3"/>
          <p:cNvSpPr/>
          <p:nvPr/>
        </p:nvSpPr>
        <p:spPr>
          <a:xfrm>
            <a:off x="8664480" y="6586560"/>
            <a:ext cx="249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5162A-B26C-4929-AFC0-8C639D717D45}" type="slidenum">
              <a:rPr b="0" lang="en-US" sz="900" spc="-1" strike="noStrike">
                <a:solidFill>
                  <a:srgbClr val="ce1126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5" name=""/>
          <p:cNvGraphicFramePr/>
          <p:nvPr/>
        </p:nvGraphicFramePr>
        <p:xfrm>
          <a:off x="2185920" y="1227240"/>
          <a:ext cx="6510240" cy="5610240"/>
        </p:xfrm>
        <a:graphic>
          <a:graphicData uri="http://schemas.openxmlformats.org/drawingml/2006/table">
            <a:tbl>
              <a:tblPr/>
              <a:tblGrid>
                <a:gridCol w="1150920"/>
                <a:gridCol w="749520"/>
                <a:gridCol w="539640"/>
                <a:gridCol w="852480"/>
                <a:gridCol w="538200"/>
                <a:gridCol w="749160"/>
                <a:gridCol w="538200"/>
                <a:gridCol w="854280"/>
                <a:gridCol w="537840"/>
              </a:tblGrid>
              <a:tr h="239040"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4"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Model 1 (</a:t>
                      </a:r>
                      <a:r>
                        <a:rPr b="0" i="1" lang="en-US" sz="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Halton</a:t>
                      </a:r>
                      <a:r>
                        <a:rPr b="0" lang="en-US" sz="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=100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Model 2 (</a:t>
                      </a:r>
                      <a:r>
                        <a:rPr b="0" i="1" lang="en-US" sz="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Halton</a:t>
                      </a:r>
                      <a:r>
                        <a:rPr b="0" lang="en-US" sz="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=100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3480"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ttribut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ar. (mean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(</a:t>
                      </a:r>
                      <a:r>
                        <a:rPr b="0" i="1" lang="en-US" sz="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</a:t>
                      </a:r>
                      <a:r>
                        <a:rPr b="0" lang="en-US" sz="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ratio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ar. (std dev.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(</a:t>
                      </a:r>
                      <a:r>
                        <a:rPr b="0" i="1" lang="en-US" sz="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</a:t>
                      </a:r>
                      <a:r>
                        <a:rPr b="0" lang="en-US" sz="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ratio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ar. (mean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(</a:t>
                      </a:r>
                      <a:r>
                        <a:rPr b="0" i="1" lang="en-US" sz="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</a:t>
                      </a:r>
                      <a:r>
                        <a:rPr b="0" lang="en-US" sz="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ratio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ar. (std dev.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(</a:t>
                      </a:r>
                      <a:r>
                        <a:rPr b="0" i="1" lang="en-US" sz="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</a:t>
                      </a:r>
                      <a:r>
                        <a:rPr b="0" lang="en-US" sz="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ratio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</a:tr>
              <a:tr h="213840"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Air NZ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.1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8.71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.16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7.82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13480"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Qanta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.8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8.74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.7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7.82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13480"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Virgi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.2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8.67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3.80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7.76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3480">
                <a:tc gridSpan="9"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andom Parameter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3480"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Fare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3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-8.74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4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7.66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32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-7.62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9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7.75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13480"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Flight Time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7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-9.56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0.72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7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-6.23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7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6.38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13480"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Variabilit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.71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-1.10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.8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4.31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6.8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-2.89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.27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3.89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3480">
                <a:tc gridSpan="9"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ixed Parameter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3480"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Departure 6am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49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-2.91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0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-1.18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19960"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Departure 10am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0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2.28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17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5.87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13480"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Departure 2pm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4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2.74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88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4.66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3480">
                <a:tc gridSpan="9"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i="1" lang="en-US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agonal Cholesky Transformed Parameter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f7f7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3480"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Fare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9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7.75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13840"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Flight Time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1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4.36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13480"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Variability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34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0.26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3480">
                <a:tc gridSpan="9"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elow Diagonal Cholesky Transformed Parameter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f7f7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3840"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Flight time:Fare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3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-7.09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13480"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Flight Time : Far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7.46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-3.23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13480"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Variability:Flight tim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6.28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-2.13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3480">
                <a:tc gridSpan="9"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del Fit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3480"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L(ASC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7bb5e9"/>
                    </a:solidFill>
                  </a:tcPr>
                </a:tc>
                <a:tc gridSpan="4"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565.23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bdda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565.23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bdda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3480"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L(</a:t>
                      </a:r>
                      <a:r>
                        <a:rPr b="1" i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β</a:t>
                      </a: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bb5e9"/>
                    </a:solidFill>
                  </a:tcPr>
                </a:tc>
                <a:tc gridSpan="4"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709.45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da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683.9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da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3480"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ρ</a:t>
                      </a:r>
                      <a:r>
                        <a:rPr b="1" lang="en-US" sz="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bb5e9"/>
                    </a:solidFill>
                  </a:tcPr>
                </a:tc>
                <a:tc gridSpan="4"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4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da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4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da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0120"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j. </a:t>
                      </a:r>
                      <a:r>
                        <a:rPr b="1" i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ρ</a:t>
                      </a:r>
                      <a:r>
                        <a:rPr b="1" lang="en-US" sz="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bb5e9"/>
                    </a:solidFill>
                  </a:tcPr>
                </a:tc>
                <a:tc gridSpan="4"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3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a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4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a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716" name="Rectangle 5"/>
          <p:cNvSpPr/>
          <p:nvPr/>
        </p:nvSpPr>
        <p:spPr>
          <a:xfrm>
            <a:off x="3990960" y="6114960"/>
            <a:ext cx="3905280" cy="381240"/>
          </a:xfrm>
          <a:prstGeom prst="rect">
            <a:avLst/>
          </a:prstGeom>
          <a:solidFill>
            <a:srgbClr val="ce1126">
              <a:alpha val="14000"/>
            </a:srgbClr>
          </a:solidFill>
          <a:ln w="25560">
            <a:solidFill>
              <a:srgbClr val="9709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Right Triangle 6"/>
          <p:cNvSpPr/>
          <p:nvPr/>
        </p:nvSpPr>
        <p:spPr>
          <a:xfrm>
            <a:off x="257040" y="4543560"/>
            <a:ext cx="1324080" cy="761760"/>
          </a:xfrm>
          <a:prstGeom prst="rtTriangle">
            <a:avLst/>
          </a:prstGeom>
          <a:solidFill>
            <a:srgbClr val="ce1126">
              <a:alpha val="19000"/>
            </a:srgbClr>
          </a:solidFill>
          <a:ln w="25560">
            <a:solidFill>
              <a:srgbClr val="9709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8" name="Object 203"/>
          <p:cNvGraphicFramePr/>
          <p:nvPr/>
        </p:nvGraphicFramePr>
        <p:xfrm>
          <a:off x="184320" y="4092480"/>
          <a:ext cx="1817640" cy="128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9" name="Object 20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4320" y="4092480"/>
                    <a:ext cx="1817640" cy="128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0" name="Rectangle 8"/>
          <p:cNvSpPr/>
          <p:nvPr/>
        </p:nvSpPr>
        <p:spPr>
          <a:xfrm>
            <a:off x="6039000" y="5124600"/>
            <a:ext cx="1295280" cy="618840"/>
          </a:xfrm>
          <a:prstGeom prst="rect">
            <a:avLst/>
          </a:prstGeom>
          <a:solidFill>
            <a:srgbClr val="ce1126">
              <a:alpha val="20000"/>
            </a:srgbClr>
          </a:solidFill>
          <a:ln w="25560">
            <a:solidFill>
              <a:srgbClr val="9709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Rounded Rectangle 9"/>
          <p:cNvSpPr/>
          <p:nvPr/>
        </p:nvSpPr>
        <p:spPr>
          <a:xfrm rot="1856400">
            <a:off x="144000" y="4562280"/>
            <a:ext cx="1905120" cy="438120"/>
          </a:xfrm>
          <a:prstGeom prst="roundRect">
            <a:avLst>
              <a:gd name="adj" fmla="val 16667"/>
            </a:avLst>
          </a:prstGeom>
          <a:solidFill>
            <a:srgbClr val="00b0f0">
              <a:alpha val="19000"/>
            </a:srgbClr>
          </a:solidFill>
          <a:ln w="25560">
            <a:solidFill>
              <a:srgbClr val="9709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Rectangle 10"/>
          <p:cNvSpPr/>
          <p:nvPr/>
        </p:nvSpPr>
        <p:spPr>
          <a:xfrm>
            <a:off x="6019920" y="4248000"/>
            <a:ext cx="1314360" cy="628920"/>
          </a:xfrm>
          <a:prstGeom prst="rect">
            <a:avLst/>
          </a:prstGeom>
          <a:solidFill>
            <a:srgbClr val="00b0f0">
              <a:alpha val="19000"/>
            </a:srgbClr>
          </a:solidFill>
          <a:ln w="25560">
            <a:solidFill>
              <a:srgbClr val="9709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TextBox 11"/>
          <p:cNvSpPr/>
          <p:nvPr/>
        </p:nvSpPr>
        <p:spPr>
          <a:xfrm>
            <a:off x="200160" y="1790640"/>
            <a:ext cx="174312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R Tes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L(Uncor)=-27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L(Corr)   =-268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Chi squar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= 52 with 3 d.f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eject the null hypothesis of the uncorelated parameters mode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285480" y="1777680"/>
            <a:ext cx="759924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MNL Model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: Panel Da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7892640" y="1777680"/>
            <a:ext cx="1143000" cy="1079640"/>
          </a:xfrm>
          <a:prstGeom prst="rect">
            <a:avLst/>
          </a:prstGeom>
          <a:noFill/>
          <a:ln w="0">
            <a:noFill/>
          </a:ln>
        </p:spPr>
        <p:txBody>
          <a:bodyPr lIns="0" anchor="ctr">
            <a:normAutofit/>
          </a:bodyPr>
          <a:p>
            <a:pPr marL="174600" indent="0" algn="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MNL model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: Panel mod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7" name=""/>
          <p:cNvSpPr txBox="1"/>
          <p:nvPr/>
        </p:nvSpPr>
        <p:spPr>
          <a:xfrm>
            <a:off x="250920" y="1773360"/>
            <a:ext cx="8663040" cy="468000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rmAutofit/>
          </a:bodyPr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The estimation of the MMNL requires that the analyst make a number of estimation related decis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396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What parameters to include in the model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396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What parameters to treat as random parameter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396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What distributional form should the parameters tak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396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What type of draws to use in estimation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396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ow many draws to use in estimation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396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Whether to allow for correlated random parameter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396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88a0b5"/>
                </a:solidFill>
                <a:latin typeface="Arial"/>
              </a:rPr>
              <a:t>Account for the panel nature of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663040" cy="4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ts val="1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Decisions, decisions, decision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Slide Number Placeholder 3"/>
          <p:cNvSpPr/>
          <p:nvPr/>
        </p:nvSpPr>
        <p:spPr>
          <a:xfrm>
            <a:off x="8664480" y="6586560"/>
            <a:ext cx="249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BFF4E-E8F3-4A0A-899F-398866DC866F}" type="slidenum">
              <a:rPr b="0" lang="en-US" sz="900" spc="-1" strike="noStrike">
                <a:solidFill>
                  <a:srgbClr val="ce1126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MNL model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: Panel mod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1" name=""/>
          <p:cNvSpPr txBox="1"/>
          <p:nvPr/>
        </p:nvSpPr>
        <p:spPr>
          <a:xfrm>
            <a:off x="250920" y="1773360"/>
            <a:ext cx="8663040" cy="468000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rmAutofit/>
          </a:bodyPr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SC data, respondents often complete more than one choice observ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ignificant proportion of research is currently looking at the impact repeated choice observations has on model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396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rly research assumed that repeated choice observations only impacted on the standard errors of the estimators of the model parame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396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recent research suggests that it can also impact on the parameter estimates themsel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challenge for the model builder is to construct th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oice model so that the set of choices that a specific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ividual makes are connected to each other whil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ill being independent of the choices made by oth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ividua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663040" cy="4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ts val="1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Panel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Slide Number Placeholder 3"/>
          <p:cNvSpPr/>
          <p:nvPr/>
        </p:nvSpPr>
        <p:spPr>
          <a:xfrm>
            <a:off x="8664480" y="6586560"/>
            <a:ext cx="249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11B4E-2769-47C2-B5ED-DD6EF2917443}" type="slidenum">
              <a:rPr b="0" lang="en-US" sz="900" spc="-1" strike="noStrike">
                <a:solidFill>
                  <a:srgbClr val="ce1126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4" name="Picture 5" descr="MPj04022660000[1]"/>
          <p:cNvPicPr/>
          <p:nvPr/>
        </p:nvPicPr>
        <p:blipFill>
          <a:blip r:embed="rId1"/>
          <a:stretch/>
        </p:blipFill>
        <p:spPr>
          <a:xfrm>
            <a:off x="6791400" y="4065480"/>
            <a:ext cx="1542960" cy="22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MNL model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: Panel mod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663040" cy="4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ts val="1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Think of it this way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Slide Number Placeholder 3"/>
          <p:cNvSpPr/>
          <p:nvPr/>
        </p:nvSpPr>
        <p:spPr>
          <a:xfrm>
            <a:off x="8664480" y="6586560"/>
            <a:ext cx="249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03ECF-4931-401C-916C-972A1BBDBE34}" type="slidenum">
              <a:rPr b="0" lang="en-US" sz="900" spc="-1" strike="noStrike">
                <a:solidFill>
                  <a:srgbClr val="ce1126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8" name="Picture 2" descr=""/>
          <p:cNvPicPr/>
          <p:nvPr/>
        </p:nvPicPr>
        <p:blipFill>
          <a:blip r:embed="rId1"/>
          <a:stretch/>
        </p:blipFill>
        <p:spPr>
          <a:xfrm>
            <a:off x="157320" y="1671480"/>
            <a:ext cx="8791560" cy="44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285480" y="1777680"/>
            <a:ext cx="759924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MNL Model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: Heterogeneity of Preferen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7892640" y="1777680"/>
            <a:ext cx="1143000" cy="1079640"/>
          </a:xfrm>
          <a:prstGeom prst="rect">
            <a:avLst/>
          </a:prstGeom>
          <a:noFill/>
          <a:ln w="0">
            <a:noFill/>
          </a:ln>
        </p:spPr>
        <p:txBody>
          <a:bodyPr lIns="0" anchor="ctr">
            <a:normAutofit/>
          </a:bodyPr>
          <a:p>
            <a:pPr marL="174600" indent="0" algn="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nel Da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740" name="Object 2"/>
          <p:cNvGraphicFramePr/>
          <p:nvPr/>
        </p:nvGraphicFramePr>
        <p:xfrm>
          <a:off x="542880" y="1411200"/>
          <a:ext cx="7818480" cy="478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2880" y="1411200"/>
                    <a:ext cx="7818480" cy="478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2" name="Object 2"/>
          <p:cNvGraphicFramePr/>
          <p:nvPr/>
        </p:nvGraphicFramePr>
        <p:xfrm>
          <a:off x="685800" y="1490760"/>
          <a:ext cx="7750080" cy="4802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90760"/>
                    <a:ext cx="7750080" cy="480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4" name="Title 4"/>
          <p:cNvSpPr/>
          <p:nvPr/>
        </p:nvSpPr>
        <p:spPr>
          <a:xfrm>
            <a:off x="1857240" y="428760"/>
            <a:ext cx="705672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MNL model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  <a:ea typeface="Arial"/>
              </a:rPr>
              <a:t>: Panel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5" name="Object 2"/>
          <p:cNvGraphicFramePr/>
          <p:nvPr/>
        </p:nvGraphicFramePr>
        <p:xfrm>
          <a:off x="914400" y="1535040"/>
          <a:ext cx="7308720" cy="479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535040"/>
                    <a:ext cx="7308720" cy="479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7" name="Title 4"/>
          <p:cNvSpPr/>
          <p:nvPr/>
        </p:nvSpPr>
        <p:spPr>
          <a:xfrm>
            <a:off x="1857240" y="428760"/>
            <a:ext cx="705672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MNL model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  <a:ea typeface="Arial"/>
              </a:rPr>
              <a:t>: Panel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8" name="Object 2"/>
          <p:cNvGraphicFramePr/>
          <p:nvPr/>
        </p:nvGraphicFramePr>
        <p:xfrm>
          <a:off x="504720" y="1571760"/>
          <a:ext cx="7844040" cy="4381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4720" y="1571760"/>
                    <a:ext cx="7844040" cy="438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0" name="Title 4"/>
          <p:cNvSpPr/>
          <p:nvPr/>
        </p:nvSpPr>
        <p:spPr>
          <a:xfrm>
            <a:off x="1857240" y="428760"/>
            <a:ext cx="705672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MNL model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  <a:ea typeface="Arial"/>
              </a:rPr>
              <a:t>: Panel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1" name="Object 2"/>
          <p:cNvGraphicFramePr/>
          <p:nvPr/>
        </p:nvGraphicFramePr>
        <p:xfrm>
          <a:off x="933480" y="1490760"/>
          <a:ext cx="7415280" cy="472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3480" y="1490760"/>
                    <a:ext cx="7415280" cy="472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3" name="Title 4"/>
          <p:cNvSpPr/>
          <p:nvPr/>
        </p:nvSpPr>
        <p:spPr>
          <a:xfrm>
            <a:off x="1857240" y="428760"/>
            <a:ext cx="705672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MNL model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  <a:ea typeface="Arial"/>
              </a:rPr>
              <a:t>: Panel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MNL model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: Panel mod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663040" cy="4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ts val="1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Example 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8664480" y="6586560"/>
            <a:ext cx="249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E32E5-7340-4B6C-817B-2B54B70DFFA0}" type="slidenum">
              <a:rPr b="0" lang="en-US" sz="900" spc="-1" strike="noStrike">
                <a:solidFill>
                  <a:srgbClr val="ce1126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7" name=""/>
          <p:cNvGraphicFramePr/>
          <p:nvPr/>
        </p:nvGraphicFramePr>
        <p:xfrm>
          <a:off x="2300400" y="1811160"/>
          <a:ext cx="4338360" cy="4557960"/>
        </p:xfrm>
        <a:graphic>
          <a:graphicData uri="http://schemas.openxmlformats.org/drawingml/2006/table">
            <a:tbl>
              <a:tblPr/>
              <a:tblGrid>
                <a:gridCol w="1295280"/>
                <a:gridCol w="766800"/>
                <a:gridCol w="789120"/>
                <a:gridCol w="734760"/>
                <a:gridCol w="752400"/>
              </a:tblGrid>
              <a:tr h="244800"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ross Sec. (N) (Halton = 100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anel (N) (Halton = 100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9400"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ttribut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ar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(</a:t>
                      </a:r>
                      <a:r>
                        <a:rPr b="0" i="1" lang="en-US" sz="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</a:t>
                      </a:r>
                      <a:r>
                        <a:rPr b="0" lang="en-US" sz="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ratio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ar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(</a:t>
                      </a:r>
                      <a:r>
                        <a:rPr b="0" i="1" lang="en-US" sz="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</a:t>
                      </a:r>
                      <a:r>
                        <a:rPr b="0" lang="en-US" sz="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ratio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</a:tr>
              <a:tr h="213480"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Air NZ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.0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8.83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7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29.48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14560"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Qanta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.87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8.87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66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29.57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13480"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Virgi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.34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8.79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33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29.23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4200">
                <a:tc gridSpan="5"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andom Parameter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3480"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Fare (mean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0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-8.82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8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-23.69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4440"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Fare (std dev.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7.48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3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3.81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4440"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Variability (mean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.06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-0.90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06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-0.62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4440"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Variability (std dev.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.78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3.65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.45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5.59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4200">
                <a:tc gridSpan="5"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ixed Parameter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3480"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Flight Tim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6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-9.79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3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-13.22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4440"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Departure 6am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4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-3.16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47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-4.42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4440"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Departure 10am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91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4.45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5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4.88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4800"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Departure 2pm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6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2.00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0.94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4200">
                <a:tc gridSpan="5"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del Fit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8600"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L(ASC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7bb5e9"/>
                    </a:solidFill>
                  </a:tcPr>
                </a:tc>
                <a:tc gridSpan="2"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565.23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bdda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565.23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bdda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8600"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L(</a:t>
                      </a:r>
                      <a:r>
                        <a:rPr b="1" i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β</a:t>
                      </a: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bb5e9"/>
                    </a:solidFill>
                  </a:tcPr>
                </a:tc>
                <a:tc gridSpan="2"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723.27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da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134.59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da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28600"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l-G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ρ</a:t>
                      </a:r>
                      <a:r>
                        <a:rPr b="1" lang="el-GR" sz="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bb5e9"/>
                    </a:solidFill>
                  </a:tcPr>
                </a:tc>
                <a:tc gridSpan="2"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3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da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0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da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3480"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j. </a:t>
                      </a:r>
                      <a:r>
                        <a:rPr b="1" i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ρ</a:t>
                      </a:r>
                      <a:r>
                        <a:rPr b="1" lang="en-US" sz="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bb5e9"/>
                    </a:solidFill>
                  </a:tcPr>
                </a:tc>
                <a:tc gridSpan="2"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3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a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a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"/>
          <p:cNvSpPr txBox="1"/>
          <p:nvPr/>
        </p:nvSpPr>
        <p:spPr>
          <a:xfrm>
            <a:off x="343080" y="1828800"/>
            <a:ext cx="8324640" cy="411480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rmAutofit/>
          </a:bodyPr>
          <a:p>
            <a:pPr marL="174600" indent="-174600">
              <a:lnSpc>
                <a:spcPct val="95000"/>
              </a:lnSpc>
              <a:spcBef>
                <a:spcPts val="374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ifornia Electricity Supply, Stated Preference Surv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95000"/>
              </a:lnSpc>
              <a:spcBef>
                <a:spcPts val="374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61 customers presented with 8-12 choice situations ea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95000"/>
              </a:lnSpc>
              <a:spcBef>
                <a:spcPts val="374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lier attribut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3960">
              <a:lnSpc>
                <a:spcPct val="95000"/>
              </a:lnSpc>
              <a:spcBef>
                <a:spcPts val="337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xed price: cents per kW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3960">
              <a:lnSpc>
                <a:spcPct val="95000"/>
              </a:lnSpc>
              <a:spcBef>
                <a:spcPts val="337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ngth of con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3960">
              <a:lnSpc>
                <a:spcPct val="95000"/>
              </a:lnSpc>
              <a:spcBef>
                <a:spcPts val="337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al ut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3960">
              <a:lnSpc>
                <a:spcPct val="95000"/>
              </a:lnSpc>
              <a:spcBef>
                <a:spcPts val="337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ll-known comp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3960">
              <a:lnSpc>
                <a:spcPct val="95000"/>
              </a:lnSpc>
              <a:spcBef>
                <a:spcPts val="337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-of-day rates (11¢ in day, 5¢ at nigh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3960">
              <a:lnSpc>
                <a:spcPct val="95000"/>
              </a:lnSpc>
              <a:spcBef>
                <a:spcPts val="337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sonal rates (10¢ in summer, 8¢ in winter, 6¢ in spring/fal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3960">
              <a:lnSpc>
                <a:spcPct val="95000"/>
              </a:lnSpc>
              <a:spcBef>
                <a:spcPts val="337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Title 4"/>
          <p:cNvSpPr/>
          <p:nvPr/>
        </p:nvSpPr>
        <p:spPr>
          <a:xfrm>
            <a:off x="1857240" y="428760"/>
            <a:ext cx="705672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MNL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Text Placeholder 6"/>
          <p:cNvSpPr/>
          <p:nvPr/>
        </p:nvSpPr>
        <p:spPr>
          <a:xfrm>
            <a:off x="250920" y="1268280"/>
            <a:ext cx="866304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  <a:ea typeface="Arial"/>
              </a:rPr>
              <a:t>Example II (Due to Ken Trai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609480" y="1676160"/>
            <a:ext cx="8229600" cy="530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opulation Distributi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"/>
          <p:cNvSpPr txBox="1"/>
          <p:nvPr/>
        </p:nvSpPr>
        <p:spPr>
          <a:xfrm>
            <a:off x="342720" y="1838160"/>
            <a:ext cx="4609800" cy="364824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rmAutofit/>
          </a:bodyPr>
          <a:p>
            <a:pPr marL="174600" indent="-174600">
              <a:lnSpc>
                <a:spcPct val="90000"/>
              </a:lnSpc>
              <a:spcBef>
                <a:spcPts val="24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rmal fo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3960">
              <a:lnSpc>
                <a:spcPct val="90000"/>
              </a:lnSpc>
              <a:spcBef>
                <a:spcPts val="224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ract leng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3960">
              <a:lnSpc>
                <a:spcPct val="90000"/>
              </a:lnSpc>
              <a:spcBef>
                <a:spcPts val="224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al ut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3960">
              <a:lnSpc>
                <a:spcPct val="90000"/>
              </a:lnSpc>
              <a:spcBef>
                <a:spcPts val="224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ll-known comp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90000"/>
              </a:lnSpc>
              <a:spcBef>
                <a:spcPts val="224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-normal f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3960">
              <a:lnSpc>
                <a:spcPct val="90000"/>
              </a:lnSpc>
              <a:spcBef>
                <a:spcPts val="224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-of-day r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3960">
              <a:lnSpc>
                <a:spcPct val="90000"/>
              </a:lnSpc>
              <a:spcBef>
                <a:spcPts val="224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sonal r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90000"/>
              </a:lnSpc>
              <a:spcBef>
                <a:spcPts val="24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ce coefficient held fix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3" name="Object 2"/>
          <p:cNvGraphicFramePr/>
          <p:nvPr/>
        </p:nvGraphicFramePr>
        <p:xfrm>
          <a:off x="4038480" y="3271680"/>
          <a:ext cx="2867040" cy="90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6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271680"/>
                    <a:ext cx="2867040" cy="90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5" name="Title 4"/>
          <p:cNvSpPr/>
          <p:nvPr/>
        </p:nvSpPr>
        <p:spPr>
          <a:xfrm>
            <a:off x="1857240" y="428760"/>
            <a:ext cx="705672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MNL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Text Placeholder 6"/>
          <p:cNvSpPr/>
          <p:nvPr/>
        </p:nvSpPr>
        <p:spPr>
          <a:xfrm>
            <a:off x="250920" y="1268280"/>
            <a:ext cx="866304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  <a:ea typeface="Arial"/>
              </a:rPr>
              <a:t>Example II (Due to Ken Trai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304920" y="9144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stimated Mod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Text Box 3"/>
          <p:cNvSpPr/>
          <p:nvPr/>
        </p:nvSpPr>
        <p:spPr>
          <a:xfrm>
            <a:off x="1278720" y="1835280"/>
            <a:ext cx="665784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d err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ce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.883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.0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rac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an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.213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.02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d dev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386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.02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cal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an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23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.12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d dev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75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.13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nown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an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59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.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d dev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962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.09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an*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13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.05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d dev*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411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.0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asonal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an*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16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.05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d dev*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281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.0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Parameters of underlying norm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Title 4"/>
          <p:cNvSpPr/>
          <p:nvPr/>
        </p:nvSpPr>
        <p:spPr>
          <a:xfrm>
            <a:off x="1857240" y="428760"/>
            <a:ext cx="705672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MNL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Text Placeholder 6"/>
          <p:cNvSpPr/>
          <p:nvPr/>
        </p:nvSpPr>
        <p:spPr>
          <a:xfrm>
            <a:off x="250920" y="1268280"/>
            <a:ext cx="866304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  <a:ea typeface="Arial"/>
              </a:rPr>
              <a:t>Example II (Due to Ken Trai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33520" y="1143000"/>
            <a:ext cx="8229600" cy="6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stribution of Brand Valu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2" name=""/>
          <p:cNvSpPr txBox="1"/>
          <p:nvPr/>
        </p:nvSpPr>
        <p:spPr>
          <a:xfrm>
            <a:off x="1666800" y="4952520"/>
            <a:ext cx="5958000" cy="69084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rmAutofit/>
          </a:bodyPr>
          <a:p>
            <a:pPr marL="174600" indent="-174600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and value of local ut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Text Box 4"/>
          <p:cNvSpPr/>
          <p:nvPr/>
        </p:nvSpPr>
        <p:spPr>
          <a:xfrm>
            <a:off x="5962680" y="2260440"/>
            <a:ext cx="180324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tandard devi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Freeform 5"/>
          <p:cNvSpPr/>
          <p:nvPr/>
        </p:nvSpPr>
        <p:spPr>
          <a:xfrm>
            <a:off x="1782720" y="3603600"/>
            <a:ext cx="592200" cy="419040"/>
          </a:xfrm>
          <a:custGeom>
            <a:avLst/>
            <a:gdLst>
              <a:gd name="textAreaLeft" fmla="*/ 0 w 592200"/>
              <a:gd name="textAreaRight" fmla="*/ 592560 w 592200"/>
              <a:gd name="textAreaTop" fmla="*/ 0 h 419040"/>
              <a:gd name="textAreaBottom" fmla="*/ 419400 h 419040"/>
            </a:gdLst>
            <a:ahLst/>
            <a:rect l="textAreaLeft" t="textAreaTop" r="textAreaRight" b="textAreaBottom"/>
            <a:pathLst>
              <a:path w="373" h="264">
                <a:moveTo>
                  <a:pt x="373" y="264"/>
                </a:moveTo>
                <a:lnTo>
                  <a:pt x="370" y="0"/>
                </a:lnTo>
                <a:lnTo>
                  <a:pt x="273" y="22"/>
                </a:lnTo>
                <a:lnTo>
                  <a:pt x="204" y="34"/>
                </a:lnTo>
                <a:lnTo>
                  <a:pt x="163" y="42"/>
                </a:lnTo>
                <a:lnTo>
                  <a:pt x="102" y="51"/>
                </a:lnTo>
                <a:lnTo>
                  <a:pt x="48" y="57"/>
                </a:lnTo>
                <a:lnTo>
                  <a:pt x="0" y="64"/>
                </a:lnTo>
                <a:lnTo>
                  <a:pt x="0" y="264"/>
                </a:lnTo>
                <a:lnTo>
                  <a:pt x="373" y="264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Line 6"/>
          <p:cNvSpPr/>
          <p:nvPr/>
        </p:nvSpPr>
        <p:spPr>
          <a:xfrm>
            <a:off x="4689360" y="2260440"/>
            <a:ext cx="0" cy="1779840"/>
          </a:xfrm>
          <a:prstGeom prst="line">
            <a:avLst/>
          </a:prstGeom>
          <a:ln w="38160">
            <a:solidFill>
              <a:srgbClr val="fbcd6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Freeform 7"/>
          <p:cNvSpPr/>
          <p:nvPr/>
        </p:nvSpPr>
        <p:spPr>
          <a:xfrm>
            <a:off x="1782720" y="2216160"/>
            <a:ext cx="5540400" cy="1676520"/>
          </a:xfrm>
          <a:custGeom>
            <a:avLst/>
            <a:gdLst>
              <a:gd name="textAreaLeft" fmla="*/ 0 w 5540400"/>
              <a:gd name="textAreaRight" fmla="*/ 5540760 w 5540400"/>
              <a:gd name="textAreaTop" fmla="*/ 0 h 1676520"/>
              <a:gd name="textAreaBottom" fmla="*/ 1676880 h 1676520"/>
            </a:gdLst>
            <a:ahLst/>
            <a:rect l="textAreaLeft" t="textAreaTop" r="textAreaRight" b="textAreaBottom"/>
            <a:pathLst>
              <a:path w="3490" h="1056">
                <a:moveTo>
                  <a:pt x="3490" y="1056"/>
                </a:moveTo>
                <a:cubicBezTo>
                  <a:pt x="3419" y="1039"/>
                  <a:pt x="3207" y="1017"/>
                  <a:pt x="3063" y="956"/>
                </a:cubicBezTo>
                <a:cubicBezTo>
                  <a:pt x="2919" y="895"/>
                  <a:pt x="2757" y="813"/>
                  <a:pt x="2627" y="692"/>
                </a:cubicBezTo>
                <a:cubicBezTo>
                  <a:pt x="2497" y="571"/>
                  <a:pt x="2390" y="338"/>
                  <a:pt x="2285" y="229"/>
                </a:cubicBezTo>
                <a:cubicBezTo>
                  <a:pt x="2180" y="120"/>
                  <a:pt x="2098" y="70"/>
                  <a:pt x="1997" y="37"/>
                </a:cubicBezTo>
                <a:cubicBezTo>
                  <a:pt x="1896" y="4"/>
                  <a:pt x="1780" y="0"/>
                  <a:pt x="1677" y="29"/>
                </a:cubicBezTo>
                <a:cubicBezTo>
                  <a:pt x="1574" y="58"/>
                  <a:pt x="1488" y="134"/>
                  <a:pt x="1381" y="213"/>
                </a:cubicBezTo>
                <a:cubicBezTo>
                  <a:pt x="1274" y="292"/>
                  <a:pt x="1154" y="415"/>
                  <a:pt x="1036" y="502"/>
                </a:cubicBezTo>
                <a:cubicBezTo>
                  <a:pt x="918" y="589"/>
                  <a:pt x="784" y="676"/>
                  <a:pt x="672" y="738"/>
                </a:cubicBezTo>
                <a:cubicBezTo>
                  <a:pt x="560" y="800"/>
                  <a:pt x="475" y="841"/>
                  <a:pt x="363" y="874"/>
                </a:cubicBezTo>
                <a:cubicBezTo>
                  <a:pt x="251" y="907"/>
                  <a:pt x="76" y="925"/>
                  <a:pt x="0" y="938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Line 8"/>
          <p:cNvSpPr/>
          <p:nvPr/>
        </p:nvSpPr>
        <p:spPr>
          <a:xfrm>
            <a:off x="2367000" y="3603600"/>
            <a:ext cx="0" cy="42372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Line 9"/>
          <p:cNvSpPr/>
          <p:nvPr/>
        </p:nvSpPr>
        <p:spPr>
          <a:xfrm>
            <a:off x="1782720" y="4027320"/>
            <a:ext cx="5540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Text Box 10"/>
          <p:cNvSpPr/>
          <p:nvPr/>
        </p:nvSpPr>
        <p:spPr>
          <a:xfrm>
            <a:off x="339840" y="2602080"/>
            <a:ext cx="339408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% dislike local ut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Line 11"/>
          <p:cNvSpPr/>
          <p:nvPr/>
        </p:nvSpPr>
        <p:spPr>
          <a:xfrm>
            <a:off x="2367000" y="4027320"/>
            <a:ext cx="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Line 12"/>
          <p:cNvSpPr/>
          <p:nvPr/>
        </p:nvSpPr>
        <p:spPr>
          <a:xfrm>
            <a:off x="4689360" y="4027320"/>
            <a:ext cx="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Text Box 13"/>
          <p:cNvSpPr/>
          <p:nvPr/>
        </p:nvSpPr>
        <p:spPr>
          <a:xfrm>
            <a:off x="2252520" y="4100400"/>
            <a:ext cx="24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Text Box 14"/>
          <p:cNvSpPr/>
          <p:nvPr/>
        </p:nvSpPr>
        <p:spPr>
          <a:xfrm>
            <a:off x="4021200" y="4100400"/>
            <a:ext cx="100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.5¢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Line 15"/>
          <p:cNvSpPr/>
          <p:nvPr/>
        </p:nvSpPr>
        <p:spPr>
          <a:xfrm>
            <a:off x="4727520" y="2952720"/>
            <a:ext cx="885960" cy="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Text Box 17"/>
          <p:cNvSpPr/>
          <p:nvPr/>
        </p:nvSpPr>
        <p:spPr>
          <a:xfrm>
            <a:off x="7391520" y="2359080"/>
            <a:ext cx="137160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=2.0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Line 18"/>
          <p:cNvSpPr/>
          <p:nvPr/>
        </p:nvSpPr>
        <p:spPr>
          <a:xfrm>
            <a:off x="1782720" y="2952720"/>
            <a:ext cx="252360" cy="9399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Freeform 19"/>
          <p:cNvSpPr/>
          <p:nvPr/>
        </p:nvSpPr>
        <p:spPr>
          <a:xfrm>
            <a:off x="5054760" y="2579760"/>
            <a:ext cx="812520" cy="312840"/>
          </a:xfrm>
          <a:custGeom>
            <a:avLst/>
            <a:gdLst>
              <a:gd name="textAreaLeft" fmla="*/ 0 w 812520"/>
              <a:gd name="textAreaRight" fmla="*/ 812880 w 812520"/>
              <a:gd name="textAreaTop" fmla="*/ 0 h 312840"/>
              <a:gd name="textAreaBottom" fmla="*/ 312840 h 312840"/>
            </a:gdLst>
            <a:ahLst/>
            <a:rect l="textAreaLeft" t="textAreaTop" r="textAreaRight" b="textAreaBottom"/>
            <a:pathLst>
              <a:path w="512" h="197">
                <a:moveTo>
                  <a:pt x="512" y="0"/>
                </a:moveTo>
                <a:cubicBezTo>
                  <a:pt x="468" y="0"/>
                  <a:pt x="313" y="0"/>
                  <a:pt x="246" y="3"/>
                </a:cubicBezTo>
                <a:cubicBezTo>
                  <a:pt x="179" y="6"/>
                  <a:pt x="141" y="6"/>
                  <a:pt x="108" y="17"/>
                </a:cubicBezTo>
                <a:cubicBezTo>
                  <a:pt x="75" y="28"/>
                  <a:pt x="63" y="39"/>
                  <a:pt x="45" y="69"/>
                </a:cubicBezTo>
                <a:cubicBezTo>
                  <a:pt x="27" y="99"/>
                  <a:pt x="9" y="170"/>
                  <a:pt x="0" y="197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Title 4"/>
          <p:cNvSpPr/>
          <p:nvPr/>
        </p:nvSpPr>
        <p:spPr>
          <a:xfrm>
            <a:off x="1857240" y="428760"/>
            <a:ext cx="705672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MNL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Text Placeholder 6"/>
          <p:cNvSpPr/>
          <p:nvPr/>
        </p:nvSpPr>
        <p:spPr>
          <a:xfrm>
            <a:off x="250920" y="1268280"/>
            <a:ext cx="866304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  <a:ea typeface="Arial"/>
              </a:rPr>
              <a:t>Example II (Due to Ken Trai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MNL model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: Heterogeneity of preferen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250920" y="1773360"/>
            <a:ext cx="8663040" cy="468000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rmAutofit/>
          </a:bodyPr>
          <a:p>
            <a:pPr marL="174600" indent="-174600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One or more of the parameter estimates of the MMNL model are now</a:t>
            </a:r>
            <a:br>
              <a:rPr sz="2000"/>
            </a:b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   represented as being randomly distributed among individua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1500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47840" indent="9360">
              <a:spcBef>
                <a:spcPts val="125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7840" indent="9360">
              <a:spcBef>
                <a:spcPts val="125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7840" indent="9360">
              <a:spcBef>
                <a:spcPts val="125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7840" indent="9360">
              <a:spcBef>
                <a:spcPts val="125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l-GR" sz="20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i="1" lang="en-AU" sz="20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i="1" lang="en-A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is the mean marginal utility in the sampled population and </a:t>
            </a:r>
            <a:r>
              <a:rPr b="0" i="1" lang="el-GR" sz="2000" spc="-1" strike="noStrike">
                <a:solidFill>
                  <a:srgbClr val="000000"/>
                </a:solidFill>
                <a:latin typeface="Arial"/>
              </a:rPr>
              <a:t>η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is the standard deviation of the marginal utilities held by respondents for attribute </a:t>
            </a:r>
            <a:r>
              <a:rPr b="0" i="1" lang="en-AU" sz="2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belonging to alternative </a:t>
            </a:r>
            <a:r>
              <a:rPr b="0" i="1" lang="en-AU" sz="2000" spc="-1" strike="noStrike">
                <a:solidFill>
                  <a:srgbClr val="000000"/>
                </a:solidFill>
                <a:latin typeface="Arial"/>
              </a:rPr>
              <a:t>j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in choice set </a:t>
            </a:r>
            <a:r>
              <a:rPr b="0" i="1" lang="en-AU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.  z</a:t>
            </a:r>
            <a:r>
              <a:rPr b="0" i="1" lang="en-AU" sz="2000" spc="-1" strike="noStrike" baseline="-25000">
                <a:solidFill>
                  <a:srgbClr val="000000"/>
                </a:solidFill>
                <a:latin typeface="Arial"/>
              </a:rPr>
              <a:t>nk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represents some underlying distribution such as z</a:t>
            </a:r>
            <a:r>
              <a:rPr b="0" i="1" lang="en-AU" sz="2000" spc="-1" strike="noStrike" baseline="-25000">
                <a:solidFill>
                  <a:srgbClr val="000000"/>
                </a:solidFill>
                <a:latin typeface="Arial"/>
              </a:rPr>
              <a:t>nk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 ~ N(0,1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663040" cy="4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ts val="1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Random parame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Slide Number Placeholder 3"/>
          <p:cNvSpPr/>
          <p:nvPr/>
        </p:nvSpPr>
        <p:spPr>
          <a:xfrm>
            <a:off x="8664480" y="6586560"/>
            <a:ext cx="249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2C458-44CD-4660-A6BF-BDC25CC28A39}" type="slidenum">
              <a:rPr b="0" lang="en-US" sz="900" spc="-1" strike="noStrike">
                <a:solidFill>
                  <a:srgbClr val="ce1126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4" name="Object 2"/>
          <p:cNvGraphicFramePr/>
          <p:nvPr/>
        </p:nvGraphicFramePr>
        <p:xfrm>
          <a:off x="768240" y="2668680"/>
          <a:ext cx="6585120" cy="183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8240" y="2668680"/>
                    <a:ext cx="6585120" cy="183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57200" y="6890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andom Parameter Distribu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1" name="Picture 2" descr=""/>
          <p:cNvPicPr/>
          <p:nvPr/>
        </p:nvPicPr>
        <p:blipFill>
          <a:blip r:embed="rId1"/>
          <a:stretch/>
        </p:blipFill>
        <p:spPr>
          <a:xfrm>
            <a:off x="1523880" y="1670040"/>
            <a:ext cx="6658200" cy="4492800"/>
          </a:xfrm>
          <a:prstGeom prst="rect">
            <a:avLst/>
          </a:prstGeom>
          <a:ln w="0">
            <a:noFill/>
          </a:ln>
        </p:spPr>
      </p:pic>
      <p:sp>
        <p:nvSpPr>
          <p:cNvPr id="792" name="Title 4"/>
          <p:cNvSpPr/>
          <p:nvPr/>
        </p:nvSpPr>
        <p:spPr>
          <a:xfrm>
            <a:off x="1857240" y="428760"/>
            <a:ext cx="705672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MNL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Text Placeholder 6"/>
          <p:cNvSpPr/>
          <p:nvPr/>
        </p:nvSpPr>
        <p:spPr>
          <a:xfrm>
            <a:off x="250920" y="1268280"/>
            <a:ext cx="866304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  <a:ea typeface="Arial"/>
              </a:rPr>
              <a:t>Example II (Due to Ken Trai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4" name="Picture 2" descr=""/>
          <p:cNvPicPr/>
          <p:nvPr/>
        </p:nvPicPr>
        <p:blipFill>
          <a:blip r:embed="rId1"/>
          <a:stretch/>
        </p:blipFill>
        <p:spPr>
          <a:xfrm>
            <a:off x="2057400" y="2768760"/>
            <a:ext cx="5943600" cy="1774800"/>
          </a:xfrm>
          <a:prstGeom prst="rect">
            <a:avLst/>
          </a:prstGeom>
          <a:ln w="0">
            <a:noFill/>
          </a:ln>
        </p:spPr>
      </p:pic>
      <p:pic>
        <p:nvPicPr>
          <p:cNvPr id="795" name="Picture 3" descr=""/>
          <p:cNvPicPr/>
          <p:nvPr/>
        </p:nvPicPr>
        <p:blipFill>
          <a:blip r:embed="rId2"/>
          <a:stretch/>
        </p:blipFill>
        <p:spPr>
          <a:xfrm>
            <a:off x="1866960" y="4680000"/>
            <a:ext cx="6143400" cy="1825560"/>
          </a:xfrm>
          <a:prstGeom prst="rect">
            <a:avLst/>
          </a:prstGeom>
          <a:ln w="0">
            <a:noFill/>
          </a:ln>
        </p:spPr>
      </p:pic>
      <p:sp>
        <p:nvSpPr>
          <p:cNvPr id="796" name="Rectangle 2"/>
          <p:cNvSpPr/>
          <p:nvPr/>
        </p:nvSpPr>
        <p:spPr>
          <a:xfrm>
            <a:off x="457200" y="1917720"/>
            <a:ext cx="822960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Time of Day Rates (Customers do not like. </a:t>
            </a:r>
            <a:br>
              <a:rPr sz="2000"/>
            </a:br>
            <a:r>
              <a:rPr b="1" lang="en-US" sz="2000" spc="-1" strike="noStrike">
                <a:solidFill>
                  <a:srgbClr val="003399"/>
                </a:solidFill>
                <a:latin typeface="Arial"/>
              </a:rPr>
              <a:t>Negative lognormal coefficient, multiply variable by -1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Title 4"/>
          <p:cNvSpPr/>
          <p:nvPr/>
        </p:nvSpPr>
        <p:spPr>
          <a:xfrm>
            <a:off x="1857240" y="428760"/>
            <a:ext cx="705672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MNL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Text Placeholder 6"/>
          <p:cNvSpPr/>
          <p:nvPr/>
        </p:nvSpPr>
        <p:spPr>
          <a:xfrm>
            <a:off x="250920" y="1268280"/>
            <a:ext cx="866304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  <a:ea typeface="Arial"/>
              </a:rPr>
              <a:t>Example II (Due to Ken Trai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285480" y="1777680"/>
            <a:ext cx="759924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MNL Model</a:t>
            </a: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: Error Compon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7892640" y="1777680"/>
            <a:ext cx="1143000" cy="1079640"/>
          </a:xfrm>
          <a:prstGeom prst="rect">
            <a:avLst/>
          </a:prstGeom>
          <a:noFill/>
          <a:ln w="0">
            <a:noFill/>
          </a:ln>
        </p:spPr>
        <p:txBody>
          <a:bodyPr lIns="0" anchor="ctr">
            <a:normAutofit/>
          </a:bodyPr>
          <a:p>
            <a:pPr marL="174600" indent="0" algn="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MNL model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: Error compon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2" name=""/>
          <p:cNvSpPr txBox="1"/>
          <p:nvPr/>
        </p:nvSpPr>
        <p:spPr>
          <a:xfrm>
            <a:off x="250920" y="1773360"/>
            <a:ext cx="8663040" cy="468000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rmAutofit/>
          </a:bodyPr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The estimation of the MMNL requires that the analyst make a number of estimation related decis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396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What parameters to include in the model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396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What parameters to treat as random parameter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396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What distributional form should the parameters tak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396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What type of draws to use in estimation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396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ow many draws to use in estimation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396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Whether to allow for correlated random parameter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396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Account for the panel nature of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396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88a0b5"/>
                </a:solidFill>
                <a:latin typeface="Arial"/>
              </a:rPr>
              <a:t>Include error compon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663040" cy="4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ts val="1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Decisions, decisions, decision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Slide Number Placeholder 3"/>
          <p:cNvSpPr/>
          <p:nvPr/>
        </p:nvSpPr>
        <p:spPr>
          <a:xfrm>
            <a:off x="8664480" y="6586560"/>
            <a:ext cx="249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00DC8-D622-4E46-BCB6-FACD8C4B8731}" type="slidenum">
              <a:rPr b="0" lang="en-US" sz="900" spc="-1" strike="noStrike">
                <a:solidFill>
                  <a:srgbClr val="ce1126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762120" y="1294920"/>
            <a:ext cx="8229600" cy="530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ication: Shoe Brand Cho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"/>
          <p:cNvSpPr txBox="1"/>
          <p:nvPr/>
        </p:nvSpPr>
        <p:spPr>
          <a:xfrm>
            <a:off x="247680" y="1771560"/>
            <a:ext cx="6934320" cy="460080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rmAutofit/>
          </a:bodyPr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ulated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396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d Choic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396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0 respondent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396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 choice situations, 3,200 observ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 choice/attributes + N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396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hion = High / 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396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ality = High / 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396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ce = 25/50/75,100 coded 1,2,3,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terogeneity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396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x (Male=1)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396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ge (&lt;25, 25-39, 40+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Title 4"/>
          <p:cNvSpPr/>
          <p:nvPr/>
        </p:nvSpPr>
        <p:spPr>
          <a:xfrm>
            <a:off x="1857240" y="428760"/>
            <a:ext cx="705672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MNL model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: Error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8" name="Picture 2" descr=""/>
          <p:cNvPicPr/>
          <p:nvPr/>
        </p:nvPicPr>
        <p:blipFill>
          <a:blip r:embed="rId1"/>
          <a:stretch/>
        </p:blipFill>
        <p:spPr>
          <a:xfrm>
            <a:off x="1190520" y="1763640"/>
            <a:ext cx="6677280" cy="4786560"/>
          </a:xfrm>
          <a:prstGeom prst="rect">
            <a:avLst/>
          </a:prstGeom>
          <a:ln w="0">
            <a:noFill/>
          </a:ln>
        </p:spPr>
      </p:pic>
      <p:sp>
        <p:nvSpPr>
          <p:cNvPr id="809" name="TextBox 2"/>
          <p:cNvSpPr/>
          <p:nvPr/>
        </p:nvSpPr>
        <p:spPr>
          <a:xfrm>
            <a:off x="714240" y="1305000"/>
            <a:ext cx="782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ated Choice Experiment: Unlabeled Alternatives, First Observ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TextBox 3"/>
          <p:cNvSpPr/>
          <p:nvPr/>
        </p:nvSpPr>
        <p:spPr>
          <a:xfrm>
            <a:off x="8229600" y="1676520"/>
            <a:ext cx="533520" cy="47826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=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=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=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=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=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=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=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=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Title 4"/>
          <p:cNvSpPr/>
          <p:nvPr/>
        </p:nvSpPr>
        <p:spPr>
          <a:xfrm>
            <a:off x="1857240" y="428760"/>
            <a:ext cx="705672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MNL model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: Error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762120" y="1294920"/>
            <a:ext cx="8229600" cy="530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Error Components Logit Model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3" name=""/>
          <p:cNvSpPr txBox="1"/>
          <p:nvPr/>
        </p:nvSpPr>
        <p:spPr>
          <a:xfrm>
            <a:off x="457200" y="20574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rmAutofit/>
          </a:bodyPr>
          <a:p>
            <a:pPr marL="174600" indent="-17460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ternative approach to building cross choice corre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on ‘effects.’  W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a ‘random individual effect’ that is constan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across choice task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4" name="Object 2"/>
          <p:cNvGraphicFramePr/>
          <p:nvPr/>
        </p:nvGraphicFramePr>
        <p:xfrm>
          <a:off x="369720" y="3257640"/>
          <a:ext cx="7785360" cy="1562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9720" y="3257640"/>
                    <a:ext cx="7785360" cy="156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6" name="Rectangle 4"/>
          <p:cNvSpPr/>
          <p:nvPr/>
        </p:nvSpPr>
        <p:spPr>
          <a:xfrm>
            <a:off x="7475400" y="3247920"/>
            <a:ext cx="762120" cy="1295640"/>
          </a:xfrm>
          <a:prstGeom prst="rect">
            <a:avLst/>
          </a:prstGeom>
          <a:solidFill>
            <a:srgbClr val="0066ff">
              <a:alpha val="14000"/>
            </a:srgbClr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Title 4"/>
          <p:cNvSpPr/>
          <p:nvPr/>
        </p:nvSpPr>
        <p:spPr>
          <a:xfrm>
            <a:off x="1857240" y="428760"/>
            <a:ext cx="705672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MNL model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: Error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ied Covariance Matrix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ested Logit Formul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19" name="Object 2"/>
          <p:cNvGraphicFramePr/>
          <p:nvPr/>
        </p:nvGraphicFramePr>
        <p:xfrm>
          <a:off x="1828800" y="4572000"/>
          <a:ext cx="5802480" cy="190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4572000"/>
                    <a:ext cx="5802480" cy="190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21" name="Picture 3" descr=""/>
          <p:cNvPicPr/>
          <p:nvPr/>
        </p:nvPicPr>
        <p:blipFill>
          <a:blip r:embed="rId3"/>
          <a:stretch/>
        </p:blipFill>
        <p:spPr>
          <a:xfrm>
            <a:off x="914400" y="2209680"/>
            <a:ext cx="7315200" cy="2262240"/>
          </a:xfrm>
          <a:prstGeom prst="rect">
            <a:avLst/>
          </a:prstGeom>
          <a:ln w="0">
            <a:noFill/>
          </a:ln>
        </p:spPr>
      </p:pic>
      <p:sp>
        <p:nvSpPr>
          <p:cNvPr id="822" name="Rectangle 4"/>
          <p:cNvSpPr/>
          <p:nvPr/>
        </p:nvSpPr>
        <p:spPr>
          <a:xfrm>
            <a:off x="3886200" y="5105520"/>
            <a:ext cx="2971800" cy="761760"/>
          </a:xfrm>
          <a:prstGeom prst="rect">
            <a:avLst/>
          </a:prstGeom>
          <a:solidFill>
            <a:srgbClr val="ffc000">
              <a:alpha val="1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Title 4"/>
          <p:cNvSpPr/>
          <p:nvPr/>
        </p:nvSpPr>
        <p:spPr>
          <a:xfrm>
            <a:off x="1857240" y="428760"/>
            <a:ext cx="705672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MNL model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: Error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399960" y="5764320"/>
            <a:ext cx="8229600" cy="368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rial"/>
              </a:rPr>
              <a:t>Correlation = {0.0959</a:t>
            </a:r>
            <a:r>
              <a:rPr b="1" lang="en-US" sz="1800" spc="-1" strike="noStrike" baseline="30000">
                <a:solidFill>
                  <a:srgbClr val="000000"/>
                </a:solidFill>
                <a:latin typeface="Courier New"/>
                <a:ea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rial"/>
              </a:rPr>
              <a:t> / [1.6449 + 0.0959</a:t>
            </a:r>
            <a:r>
              <a:rPr b="1" lang="en-US" sz="1800" spc="-1" strike="noStrike" baseline="30000">
                <a:solidFill>
                  <a:srgbClr val="000000"/>
                </a:solidFill>
                <a:latin typeface="Courier New"/>
                <a:ea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rial"/>
              </a:rPr>
              <a:t>]}</a:t>
            </a:r>
            <a:r>
              <a:rPr b="1" lang="en-US" sz="1800" spc="-1" strike="noStrike" baseline="30000">
                <a:solidFill>
                  <a:srgbClr val="000000"/>
                </a:solidFill>
                <a:latin typeface="Courier New"/>
                <a:ea typeface="Arial"/>
              </a:rPr>
              <a:t>1/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rial"/>
              </a:rPr>
              <a:t> = 0.09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TextBox 5"/>
          <p:cNvSpPr/>
          <p:nvPr/>
        </p:nvSpPr>
        <p:spPr>
          <a:xfrm>
            <a:off x="419040" y="1725480"/>
            <a:ext cx="83059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----------------------------------------------------------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 Components (Random Effects)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ependent variable               CHO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Log likelihood function     -4158.4504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stimation based on N =   3200, K =  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sponse data are given as ind. cho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plications for simulated probs. =  5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Halton sequences used for simul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CM model with panel has     400 grou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Fixed number of obsrvs./group=       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umber of obs.=  3200, skipped    0 o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--------+-------------------------------------------------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ariable| Coefficient    Standard Error  b/St.Er. P[|Z|&gt;z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--------+-------------------------------------------------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|Nonrandom parameters in utility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FASH|    1.47913***       .06971       21.218   .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it-I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QUAL|    1.01385***       .06580       15.409   .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CE|   -11.8052***       .86019      -13.724   .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it-I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SC4|     .03363          .07441         .452   .65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igmaE01|     .09585***       .02529        3.791   .00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--------+-------------------------------------------------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TextBox 6"/>
          <p:cNvSpPr/>
          <p:nvPr/>
        </p:nvSpPr>
        <p:spPr>
          <a:xfrm>
            <a:off x="6019920" y="2916360"/>
            <a:ext cx="29718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andom Effects Logit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ppearance of Latent Random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ffects in Util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lternative   E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+-------------+---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|  BRAND1     | * |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+-------------+---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|  BRAND2     | * |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+-------------+---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|  BRAND3     | * |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+-------------+---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|  NONE       |   |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+-------------+---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MNL model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: Error compon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MNL model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: Error compon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"/>
          <p:cNvSpPr txBox="1"/>
          <p:nvPr/>
        </p:nvSpPr>
        <p:spPr>
          <a:xfrm>
            <a:off x="250920" y="1773360"/>
            <a:ext cx="8663040" cy="468000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rmAutofit/>
          </a:bodyPr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Rather than associate separate </a:t>
            </a:r>
            <a:r>
              <a:rPr b="0" i="1" lang="en-AU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AU" sz="2000" spc="-1" strike="noStrike" baseline="-25000">
                <a:solidFill>
                  <a:srgbClr val="000000"/>
                </a:solidFill>
                <a:latin typeface="Arial"/>
              </a:rPr>
              <a:t>nsj</a:t>
            </a:r>
            <a:r>
              <a:rPr b="0" lang="en-AU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for each, the error components model utilise dummy variables to place subsets of alternatives into different ‘nests’  (It creates the equivalent of the nested logit model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It is possible to have random parameters in the model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663040" cy="4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ts val="1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Complicated error structures can be created with error compon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Slide Number Placeholder 3"/>
          <p:cNvSpPr/>
          <p:nvPr/>
        </p:nvSpPr>
        <p:spPr>
          <a:xfrm>
            <a:off x="8664480" y="6586560"/>
            <a:ext cx="249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39E70-1C1C-468E-957B-B77EFF051E35}" type="slidenum">
              <a:rPr b="0" lang="en-US" sz="900" spc="-1" strike="noStrike">
                <a:solidFill>
                  <a:srgbClr val="ce1126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2" name="Object 5"/>
          <p:cNvGraphicFramePr/>
          <p:nvPr/>
        </p:nvGraphicFramePr>
        <p:xfrm>
          <a:off x="1400040" y="2928960"/>
          <a:ext cx="5658120" cy="259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3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0040" y="2928960"/>
                    <a:ext cx="5658120" cy="259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MNL model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: Heterogeneity of preferen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742920" y="1773360"/>
            <a:ext cx="5170680" cy="468000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rmAutofit/>
          </a:bodyPr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Where fare, flight time and variability are random parameters assumed to be normally distribut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Consider the fare parame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</a:rPr>
              <a:t>t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663040" cy="4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ts val="1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Examp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Slide Number Placeholder 3"/>
          <p:cNvSpPr/>
          <p:nvPr/>
        </p:nvSpPr>
        <p:spPr>
          <a:xfrm>
            <a:off x="8664480" y="6586560"/>
            <a:ext cx="249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B9653-E5E1-421C-B579-D16F6350E859}" type="slidenum">
              <a:rPr b="0" lang="en-US" sz="900" spc="-1" strike="noStrike">
                <a:solidFill>
                  <a:srgbClr val="ce1126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0" name=""/>
          <p:cNvGraphicFramePr/>
          <p:nvPr/>
        </p:nvGraphicFramePr>
        <p:xfrm>
          <a:off x="611280" y="2060640"/>
          <a:ext cx="2896920" cy="4403520"/>
        </p:xfrm>
        <a:graphic>
          <a:graphicData uri="http://schemas.openxmlformats.org/drawingml/2006/table">
            <a:tbl>
              <a:tblPr/>
              <a:tblGrid>
                <a:gridCol w="1527120"/>
                <a:gridCol w="601560"/>
                <a:gridCol w="768240"/>
              </a:tblGrid>
              <a:tr h="244080"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ttribu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ar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(</a:t>
                      </a:r>
                      <a:r>
                        <a:rPr b="0" i="1" lang="en-US" sz="1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</a:t>
                      </a:r>
                      <a:r>
                        <a:rPr b="0" lang="en-US" sz="1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ratio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</a:tr>
              <a:tr h="244080"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Air N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.12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8.71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4080"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Qant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.84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8.74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4080"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Virgi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.27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8.67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080"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Fare (mean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-8.74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5880"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Fare (std dev.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7.66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4080"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Flight Time  (mean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7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-9.56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4080"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Flight Time  (std dev.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0.72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4080"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Departure 6a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4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-2.907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4080"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Departure 10a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4.64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4080"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Departure 2p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2.28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4080"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Variability (mean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.7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-1.10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44080"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Variability (std dev.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.78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4.31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44080">
                <a:tc gridSpan="3"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del Fi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f7f7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4080"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L(ASC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7bb5e9"/>
                    </a:solidFill>
                  </a:tcPr>
                </a:tc>
                <a:tc gridSpan="2"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565.2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bdda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4080"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L(</a:t>
                      </a: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β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bb5e9"/>
                    </a:solidFill>
                  </a:tcPr>
                </a:tc>
                <a:tc gridSpan="2"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709.45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da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4080"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l-GR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ρ</a:t>
                      </a:r>
                      <a:r>
                        <a:rPr b="1" lang="el-GR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bb5e9"/>
                    </a:solidFill>
                  </a:tcPr>
                </a:tc>
                <a:tc gridSpan="2"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dda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4080"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j. </a:t>
                      </a: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ρ</a:t>
                      </a:r>
                      <a:r>
                        <a:rPr b="1" lang="en-US" sz="10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bb5e9"/>
                    </a:solidFill>
                  </a:tcPr>
                </a:tc>
                <a:tc gridSpan="2"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3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a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81" name="Object 2"/>
          <p:cNvGraphicFramePr/>
          <p:nvPr/>
        </p:nvGraphicFramePr>
        <p:xfrm>
          <a:off x="3867120" y="3384720"/>
          <a:ext cx="2594160" cy="60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67120" y="3384720"/>
                    <a:ext cx="259416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3" name="Object 3"/>
          <p:cNvGraphicFramePr/>
          <p:nvPr/>
        </p:nvGraphicFramePr>
        <p:xfrm>
          <a:off x="4037040" y="4665600"/>
          <a:ext cx="4357800" cy="608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84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037040" y="4665600"/>
                    <a:ext cx="4357800" cy="60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MNL model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: Error compon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663040" cy="4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ts val="1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Slide Number Placeholder 3"/>
          <p:cNvSpPr/>
          <p:nvPr/>
        </p:nvSpPr>
        <p:spPr>
          <a:xfrm>
            <a:off x="8664480" y="6586560"/>
            <a:ext cx="249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70D39-6362-4F5B-8E23-C8124B88FCA2}" type="slidenum">
              <a:rPr b="0" lang="en-US" sz="900" spc="-1" strike="noStrike">
                <a:solidFill>
                  <a:srgbClr val="ce1126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7" name=""/>
          <p:cNvGraphicFramePr/>
          <p:nvPr/>
        </p:nvGraphicFramePr>
        <p:xfrm>
          <a:off x="1530360" y="1239840"/>
          <a:ext cx="6983280" cy="5243400"/>
        </p:xfrm>
        <a:graphic>
          <a:graphicData uri="http://schemas.openxmlformats.org/drawingml/2006/table">
            <a:tbl>
              <a:tblPr/>
              <a:tblGrid>
                <a:gridCol w="1320840"/>
                <a:gridCol w="915840"/>
                <a:gridCol w="895320"/>
                <a:gridCol w="955800"/>
                <a:gridCol w="795240"/>
                <a:gridCol w="1001880"/>
                <a:gridCol w="1098360"/>
              </a:tblGrid>
              <a:tr h="213480">
                <a:tc>
                  <a:txBody>
                    <a:bodyPr lIns="90000" rIns="900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MMNL model (Halton =100) (N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EC (Halton =100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MMNL (N) + EC model (Halton =100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4200"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ttribut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ar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(</a:t>
                      </a:r>
                      <a:r>
                        <a:rPr b="0" i="1" lang="en-US" sz="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</a:t>
                      </a:r>
                      <a:r>
                        <a:rPr b="0" lang="en-US" sz="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ratio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ar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(</a:t>
                      </a:r>
                      <a:r>
                        <a:rPr b="0" i="1" lang="en-US" sz="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</a:t>
                      </a:r>
                      <a:r>
                        <a:rPr b="0" lang="en-US" sz="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ratio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ar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(</a:t>
                      </a:r>
                      <a:r>
                        <a:rPr b="0" i="1" lang="en-US" sz="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</a:t>
                      </a:r>
                      <a:r>
                        <a:rPr b="0" lang="en-US" sz="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-ratio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</a:tr>
              <a:tr h="213480"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Air NZ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72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-29.48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09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24.24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.16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25.05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4200"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Qanta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66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-29.57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06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24.38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.08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25.12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3480"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Virgi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.33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-29.23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.70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23.76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7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24.57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3480">
                <a:tc gridSpan="7"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andom Parameter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4560"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Fare (mean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8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-23.69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6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-41.27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8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-23.03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4840"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Fare (std dev.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3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-13.81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36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3.27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4840"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Variability (mean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.06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-0.62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25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0.02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38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-0.24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94840"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Variability (std dev.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.45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-5.59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.67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3.42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4200">
                <a:tc gridSpan="7"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ixed Parameter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4560"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Flight Tim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3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-13.22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3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-12.78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4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-13.11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4200"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Departure 6am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47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-4.42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4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-6.10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474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-5.46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4200"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Departure 10am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5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-4.88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1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4.64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5.09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6000"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Departure 2pm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00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-0.940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0.19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0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.00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3480">
                <a:tc gridSpan="7"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rror Component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4840"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Air NZ, Qantas, Virgi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.08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1.76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.26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12.86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6000"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ffff99"/>
                          </a:solidFill>
                          <a:latin typeface="Arial"/>
                        </a:rPr>
                        <a:t>Air NZ, Qanta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3366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72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7.99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70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7.49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3480">
                <a:tc gridSpan="7"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del Fit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4200"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L(ASC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bb5e9"/>
                    </a:solidFill>
                  </a:tcPr>
                </a:tc>
                <a:tc gridSpan="2"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565.23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a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565.23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a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565.23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a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3480"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L(</a:t>
                      </a:r>
                      <a:r>
                        <a:rPr b="1" i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β</a:t>
                      </a: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bb5e9"/>
                    </a:solidFill>
                  </a:tcPr>
                </a:tc>
                <a:tc gridSpan="2"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134.59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a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064.7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a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020.037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a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4200"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l-G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ρ</a:t>
                      </a:r>
                      <a:r>
                        <a:rPr b="1" lang="el-GR" sz="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bb5e9"/>
                    </a:solidFill>
                  </a:tcPr>
                </a:tc>
                <a:tc gridSpan="2"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0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a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2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a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33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a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3480">
                <a:tc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j. </a:t>
                      </a:r>
                      <a:r>
                        <a:rPr b="1" i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ρ</a:t>
                      </a:r>
                      <a:r>
                        <a:rPr b="1" lang="en-US" sz="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bb5e9"/>
                    </a:solidFill>
                  </a:tcPr>
                </a:tc>
                <a:tc gridSpan="2"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9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a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18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a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31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dda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85480" y="1777680"/>
            <a:ext cx="759924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dividual Paramet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7892640" y="1777680"/>
            <a:ext cx="1143000" cy="1079640"/>
          </a:xfrm>
          <a:prstGeom prst="rect">
            <a:avLst/>
          </a:prstGeom>
          <a:noFill/>
          <a:ln w="0">
            <a:noFill/>
          </a:ln>
        </p:spPr>
        <p:txBody>
          <a:bodyPr lIns="0" anchor="ctr">
            <a:normAutofit/>
          </a:bodyPr>
          <a:p>
            <a:pPr marL="174600" indent="0" algn="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dividual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663040" cy="4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ts val="1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n we estimate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?  An exercise using Bayes Theor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2" name="Object 2"/>
          <p:cNvGraphicFramePr/>
          <p:nvPr/>
        </p:nvGraphicFramePr>
        <p:xfrm>
          <a:off x="584280" y="1836720"/>
          <a:ext cx="7837560" cy="4354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4280" y="1836720"/>
                    <a:ext cx="7837560" cy="435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dividual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663040" cy="4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ts val="1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n we estimate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?  An exercise using Bayes Theor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6" name="Object 2"/>
          <p:cNvGraphicFramePr/>
          <p:nvPr/>
        </p:nvGraphicFramePr>
        <p:xfrm>
          <a:off x="407880" y="2227320"/>
          <a:ext cx="8020080" cy="288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7880" y="2227320"/>
                    <a:ext cx="8020080" cy="288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dividual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663040" cy="4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ts val="1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n we compute E[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"/>
              </a:rPr>
              <a:t>nk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|choices]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0" name="Object 2"/>
          <p:cNvGraphicFramePr/>
          <p:nvPr/>
        </p:nvGraphicFramePr>
        <p:xfrm>
          <a:off x="264960" y="2120760"/>
          <a:ext cx="8020080" cy="348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4960" y="2120760"/>
                    <a:ext cx="8020080" cy="348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762120" y="1294920"/>
            <a:ext cx="8229600" cy="530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ication: Shoe Brand Choi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3" name="Rectangle 3"/>
          <p:cNvSpPr/>
          <p:nvPr/>
        </p:nvSpPr>
        <p:spPr>
          <a:xfrm>
            <a:off x="247680" y="1771560"/>
            <a:ext cx="6934320" cy="46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normAutofit/>
          </a:bodyPr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  <a:ea typeface="Arial"/>
              </a:rPr>
              <a:t>Simulated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396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  <a:ea typeface="Arial"/>
              </a:rPr>
              <a:t>Stated Choic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396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  <a:ea typeface="Arial"/>
              </a:rPr>
              <a:t>400 respondent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396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  <a:ea typeface="Arial"/>
              </a:rPr>
              <a:t>8 choice situations, 3,200 observ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  <a:ea typeface="Arial"/>
              </a:rPr>
              <a:t>3 choice/attributes + N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396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  <a:ea typeface="Arial"/>
              </a:rPr>
              <a:t>Fashion = High / 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396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  <a:ea typeface="Arial"/>
              </a:rPr>
              <a:t>Quality = High / 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396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  <a:ea typeface="Arial"/>
              </a:rPr>
              <a:t>Price = 25/50/75,100 coded 1,2,3,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Arial"/>
                <a:ea typeface="Arial"/>
              </a:rPr>
              <a:t>Heterogeneity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396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  <a:ea typeface="Arial"/>
              </a:rPr>
              <a:t>Sex (Male=1)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61800" indent="-183960">
              <a:spcBef>
                <a:spcPts val="499"/>
              </a:spcBef>
              <a:spcAft>
                <a:spcPts val="499"/>
              </a:spcAft>
              <a:buClr>
                <a:srgbClr val="ce112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  <a:ea typeface="Arial"/>
              </a:rPr>
              <a:t>Age (&lt;25, 25-39, 40+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Title 4"/>
          <p:cNvSpPr/>
          <p:nvPr/>
        </p:nvSpPr>
        <p:spPr>
          <a:xfrm>
            <a:off x="1857240" y="428760"/>
            <a:ext cx="705672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dividual parame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5" name="Picture 2" descr=""/>
          <p:cNvPicPr/>
          <p:nvPr/>
        </p:nvPicPr>
        <p:blipFill>
          <a:blip r:embed="rId1"/>
          <a:stretch/>
        </p:blipFill>
        <p:spPr>
          <a:xfrm>
            <a:off x="1190520" y="1763640"/>
            <a:ext cx="6677280" cy="4786560"/>
          </a:xfrm>
          <a:prstGeom prst="rect">
            <a:avLst/>
          </a:prstGeom>
          <a:ln w="0">
            <a:noFill/>
          </a:ln>
        </p:spPr>
      </p:pic>
      <p:sp>
        <p:nvSpPr>
          <p:cNvPr id="856" name="TextBox 2"/>
          <p:cNvSpPr/>
          <p:nvPr/>
        </p:nvSpPr>
        <p:spPr>
          <a:xfrm>
            <a:off x="714240" y="1305000"/>
            <a:ext cx="782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ated Choice Experiment: Unlabeled Alternatives, First Observ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TextBox 3"/>
          <p:cNvSpPr/>
          <p:nvPr/>
        </p:nvSpPr>
        <p:spPr>
          <a:xfrm>
            <a:off x="8229600" y="1676520"/>
            <a:ext cx="533520" cy="47826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=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=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=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=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=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=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=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=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Title 4"/>
          <p:cNvSpPr/>
          <p:nvPr/>
        </p:nvSpPr>
        <p:spPr>
          <a:xfrm>
            <a:off x="1857240" y="428760"/>
            <a:ext cx="705672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dividual parame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762120" y="1294920"/>
            <a:ext cx="8229600" cy="530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Error Components Logit Model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60" name="Object 2"/>
          <p:cNvGraphicFramePr/>
          <p:nvPr/>
        </p:nvGraphicFramePr>
        <p:xfrm>
          <a:off x="338040" y="2103480"/>
          <a:ext cx="8213760" cy="276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8040" y="2103480"/>
                    <a:ext cx="8213760" cy="276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2" name="Title 4"/>
          <p:cNvSpPr/>
          <p:nvPr/>
        </p:nvSpPr>
        <p:spPr>
          <a:xfrm>
            <a:off x="1857240" y="428760"/>
            <a:ext cx="705672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dividual parame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3" name="Picture 2" descr=""/>
          <p:cNvPicPr/>
          <p:nvPr/>
        </p:nvPicPr>
        <p:blipFill>
          <a:blip r:embed="rId1"/>
          <a:stretch/>
        </p:blipFill>
        <p:spPr>
          <a:xfrm>
            <a:off x="1576440" y="1352520"/>
            <a:ext cx="6330960" cy="5095800"/>
          </a:xfrm>
          <a:prstGeom prst="rect">
            <a:avLst/>
          </a:prstGeom>
          <a:ln w="0">
            <a:noFill/>
          </a:ln>
        </p:spPr>
      </p:pic>
      <p:sp>
        <p:nvSpPr>
          <p:cNvPr id="864" name="Title 4"/>
          <p:cNvSpPr/>
          <p:nvPr/>
        </p:nvSpPr>
        <p:spPr>
          <a:xfrm>
            <a:off x="1857240" y="428760"/>
            <a:ext cx="705672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dividual parame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5" name="Picture 2" descr=""/>
          <p:cNvPicPr/>
          <p:nvPr/>
        </p:nvPicPr>
        <p:blipFill>
          <a:blip r:embed="rId1"/>
          <a:stretch/>
        </p:blipFill>
        <p:spPr>
          <a:xfrm>
            <a:off x="142920" y="2633760"/>
            <a:ext cx="8878680" cy="3929040"/>
          </a:xfrm>
          <a:prstGeom prst="rect">
            <a:avLst/>
          </a:prstGeom>
          <a:ln w="0">
            <a:noFill/>
          </a:ln>
        </p:spPr>
      </p:pic>
      <p:pic>
        <p:nvPicPr>
          <p:cNvPr id="866" name="Picture 3" descr=""/>
          <p:cNvPicPr/>
          <p:nvPr/>
        </p:nvPicPr>
        <p:blipFill>
          <a:blip r:embed="rId2"/>
          <a:stretch/>
        </p:blipFill>
        <p:spPr>
          <a:xfrm>
            <a:off x="1724040" y="1314360"/>
            <a:ext cx="5200560" cy="1333440"/>
          </a:xfrm>
          <a:prstGeom prst="rect">
            <a:avLst/>
          </a:prstGeom>
          <a:ln w="0">
            <a:noFill/>
          </a:ln>
        </p:spPr>
      </p:pic>
      <p:sp>
        <p:nvSpPr>
          <p:cNvPr id="867" name="Title 4"/>
          <p:cNvSpPr/>
          <p:nvPr/>
        </p:nvSpPr>
        <p:spPr>
          <a:xfrm>
            <a:off x="1857240" y="428760"/>
            <a:ext cx="705672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dividual parame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857240" y="428400"/>
            <a:ext cx="7056720" cy="633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ts val="25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MNL model</a:t>
            </a: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: Heterogeneity of preferen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663040" cy="48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/>
          </a:bodyPr>
          <a:p>
            <a:pPr indent="0">
              <a:lnSpc>
                <a:spcPts val="1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000" spc="-1" strike="noStrike">
                <a:solidFill>
                  <a:srgbClr val="000000"/>
                </a:solidFill>
                <a:latin typeface="Arial"/>
              </a:rPr>
              <a:t>Excel example: The population distribution of fare coefficients might appear as belo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Slide Number Placeholder 3"/>
          <p:cNvSpPr/>
          <p:nvPr/>
        </p:nvSpPr>
        <p:spPr>
          <a:xfrm>
            <a:off x="8664480" y="6586560"/>
            <a:ext cx="2494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8E8D2-EE6F-4D54-84DD-6C44DEA3DAC5}" type="slidenum">
              <a:rPr b="0" lang="en-US" sz="900" spc="-1" strike="noStrike">
                <a:solidFill>
                  <a:srgbClr val="ce1126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8" name="Picture 11" descr=""/>
          <p:cNvPicPr/>
          <p:nvPr/>
        </p:nvPicPr>
        <p:blipFill>
          <a:blip r:embed="rId1"/>
          <a:stretch/>
        </p:blipFill>
        <p:spPr>
          <a:xfrm>
            <a:off x="5591160" y="3284640"/>
            <a:ext cx="3505320" cy="3066840"/>
          </a:xfrm>
          <a:prstGeom prst="rect">
            <a:avLst/>
          </a:prstGeom>
          <a:ln w="0">
            <a:noFill/>
          </a:ln>
        </p:spPr>
      </p:pic>
      <p:sp>
        <p:nvSpPr>
          <p:cNvPr id="489" name="TextBox 13"/>
          <p:cNvSpPr/>
          <p:nvPr/>
        </p:nvSpPr>
        <p:spPr>
          <a:xfrm>
            <a:off x="5686560" y="1886040"/>
            <a:ext cx="3038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  <a:ea typeface="Arial"/>
              </a:rPr>
              <a:t>=normsinv(rand()) takes a random draw from a standard normal distribu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0" name="Picture 12" descr=""/>
          <p:cNvPicPr/>
          <p:nvPr/>
        </p:nvPicPr>
        <p:blipFill>
          <a:blip r:embed="rId2"/>
          <a:stretch/>
        </p:blipFill>
        <p:spPr>
          <a:xfrm>
            <a:off x="314280" y="1787400"/>
            <a:ext cx="5110200" cy="471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9T23:28:42Z</dcterms:created>
  <dc:creator>PresentationStudio.com</dc:creator>
  <dc:description/>
  <dc:language>en-US</dc:language>
  <cp:lastModifiedBy>Andrew</cp:lastModifiedBy>
  <dcterms:modified xsi:type="dcterms:W3CDTF">2014-07-20T07:09:16Z</dcterms:modified>
  <cp:revision>805</cp:revision>
  <dc:subject/>
  <dc:title>UNIS Template</dc:title>
</cp:coreProperties>
</file>